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8D8-5D19-4272-86C7-0B739DBD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9B7-C12F-4AFC-8F4A-361F89D7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2B9-8B59-47FC-BA9F-A8EEFBBA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0DB-EF1A-410B-B6F1-8A71E518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797-33B2-4C45-87EB-5AA7135A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A2E-A4A7-4137-B8D2-5630615C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7D3-3644-40EF-B5B0-D57157EF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715-C4BB-4C65-AA5D-FE1F754B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B4C-B5DF-4429-946C-0B15CA6A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E39-204A-4AE5-8C36-E4C172EC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22E-DA55-4575-B092-E26B46E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A73B-767C-42F7-842C-0BCDF23A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C14F-515A-4EB7-A197-6E8931F35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d Vertical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pograph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isobars"/>
          <p:cNvPicPr/>
          <p:nvPr/>
        </p:nvPicPr>
        <p:blipFill>
          <a:blip r:embed="rId1"/>
          <a:stretch/>
        </p:blipFill>
        <p:spPr>
          <a:xfrm>
            <a:off x="380880" y="838080"/>
            <a:ext cx="8305920" cy="5639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4" name="Text Box 9"/>
          <p:cNvSpPr/>
          <p:nvPr/>
        </p:nvSpPr>
        <p:spPr>
          <a:xfrm>
            <a:off x="380880" y="3049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lines on this map measuring?   What do they repres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soline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 a line on a map that links points with equal values.  (“iso” means “equal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.g.  Atmospheric pressure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pth under water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b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ecipitation: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soh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Line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a type of isoline that represent areas of equal elevation on a map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contour interva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the distance between each contour lines (e.g. 20 meters).  The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index contou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a thicker contour line with the elevation written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ontour_anatomy"/>
          <p:cNvPicPr/>
          <p:nvPr/>
        </p:nvPicPr>
        <p:blipFill>
          <a:blip r:embed="rId1"/>
          <a:stretch/>
        </p:blipFill>
        <p:spPr>
          <a:xfrm>
            <a:off x="304920" y="1219320"/>
            <a:ext cx="8458200" cy="5375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tour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ontour lines"/>
          <p:cNvPicPr/>
          <p:nvPr/>
        </p:nvPicPr>
        <p:blipFill>
          <a:blip r:embed="rId1"/>
          <a:stretch/>
        </p:blipFill>
        <p:spPr>
          <a:xfrm>
            <a:off x="609480" y="1523880"/>
            <a:ext cx="3667320" cy="452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Oval 6"/>
          <p:cNvSpPr/>
          <p:nvPr/>
        </p:nvSpPr>
        <p:spPr>
          <a:xfrm>
            <a:off x="1371600" y="3657600"/>
            <a:ext cx="4572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657600" y="3429000"/>
            <a:ext cx="4572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ontour lines_stream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449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Oval 10"/>
          <p:cNvSpPr/>
          <p:nvPr/>
        </p:nvSpPr>
        <p:spPr>
          <a:xfrm>
            <a:off x="5943600" y="2514600"/>
            <a:ext cx="609480" cy="6094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5257800" y="3657600"/>
            <a:ext cx="609480" cy="5335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H="1">
            <a:off x="6019920" y="3276720"/>
            <a:ext cx="457200" cy="1752480"/>
          </a:xfrm>
          <a:prstGeom prst="line">
            <a:avLst/>
          </a:prstGeom>
          <a:ln w="3168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495680" y="60958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opographic maps, contours point upstr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 flipH="1">
            <a:off x="1676160" y="251460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124080" y="251460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3623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Same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rtical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vertical profile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51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our Qui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contour with the appropriate vertical profi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contour_quiz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49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Line 15"/>
          <p:cNvSpPr/>
          <p:nvPr/>
        </p:nvSpPr>
        <p:spPr>
          <a:xfrm>
            <a:off x="4343400" y="2286000"/>
            <a:ext cx="685800" cy="6094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4267080" y="3048120"/>
            <a:ext cx="762120" cy="22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4343400" y="3962520"/>
            <a:ext cx="609480" cy="53316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4191120" y="3809880"/>
            <a:ext cx="761760" cy="91440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4191120" y="5410080"/>
            <a:ext cx="761760" cy="685800"/>
          </a:xfrm>
          <a:prstGeom prst="line">
            <a:avLst/>
          </a:prstGeom>
          <a:ln w="255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 flipV="1">
            <a:off x="4191120" y="2285640"/>
            <a:ext cx="761760" cy="3886200"/>
          </a:xfrm>
          <a:prstGeom prst="line">
            <a:avLst/>
          </a:prstGeom>
          <a:ln w="255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0:02:35Z</dcterms:created>
  <dc:creator>OCDSB User</dc:creator>
  <dc:description/>
  <dc:language>en-US</dc:language>
  <cp:lastModifiedBy>McKillop, Tim</cp:lastModifiedBy>
  <dcterms:modified xsi:type="dcterms:W3CDTF">2014-02-12T13:58:25Z</dcterms:modified>
  <cp:revision>9</cp:revision>
  <dc:subject/>
  <dc:title>Contour Lines and Vertical Profiles</dc:title>
</cp:coreProperties>
</file>