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5BE-DB03-4A22-8EC1-8078C8D8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8927-06DB-4EA9-A912-DBABE378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7C2-70BD-4FF6-B4F8-19F3983F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454-3E87-4FC5-B3DC-F305E450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A34-4ECF-41DC-ABF5-ECA6B00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F7B-9F20-45F7-A7ED-47FE1F2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E20-EB0C-4AE0-B0BF-68477BC8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6EA-1752-4212-8896-87AB2832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44F3-AEBD-4D88-85EB-DE365DD8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7F5-9E04-45AB-AB1D-05E4B740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294-9F97-4BAC-B897-8BB9F70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FD4-578F-4617-B53C-E93C1EDC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6279-04CA-40EE-8927-F530D4CBD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Vertical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pograph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isobars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639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" name="Text Box 9"/>
          <p:cNvSpPr/>
          <p:nvPr/>
        </p:nvSpPr>
        <p:spPr>
          <a:xfrm>
            <a:off x="3808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lines on this map measuring?   What do they repre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soli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a line on a map that links points with equal values.  (“iso” means “equ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.g.  Atmospheric pressure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pth under water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ecipitation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h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Lin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a type of isoline that represent areas of equal elevation on a map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interv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distance between each contour lines (e.g. 20 meters)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ndex contou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a thicker contour line with the elevation written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ontour_anatomy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537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ontour lines"/>
          <p:cNvPicPr/>
          <p:nvPr/>
        </p:nvPicPr>
        <p:blipFill>
          <a:blip r:embed="rId1"/>
          <a:stretch/>
        </p:blipFill>
        <p:spPr>
          <a:xfrm>
            <a:off x="609480" y="1523880"/>
            <a:ext cx="36673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Oval 6"/>
          <p:cNvSpPr/>
          <p:nvPr/>
        </p:nvSpPr>
        <p:spPr>
          <a:xfrm>
            <a:off x="1371600" y="365760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657600" y="3429000"/>
            <a:ext cx="4572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ontour lines_stream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449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Oval 10"/>
          <p:cNvSpPr/>
          <p:nvPr/>
        </p:nvSpPr>
        <p:spPr>
          <a:xfrm>
            <a:off x="5943600" y="2514600"/>
            <a:ext cx="609480" cy="6094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5257800" y="3657600"/>
            <a:ext cx="6094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6019920" y="3276720"/>
            <a:ext cx="457200" cy="1752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495680" y="6095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opographic maps, contours point upst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1676160" y="251460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124080" y="25146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362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Same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tical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vertical profile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51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our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contour with the appropriate vertical profi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ntour_quiz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9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Line 15"/>
          <p:cNvSpPr/>
          <p:nvPr/>
        </p:nvSpPr>
        <p:spPr>
          <a:xfrm>
            <a:off x="4343400" y="2286000"/>
            <a:ext cx="685800" cy="609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267080" y="3048120"/>
            <a:ext cx="76212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4343400" y="3962520"/>
            <a:ext cx="609480" cy="53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4191120" y="3809880"/>
            <a:ext cx="761760" cy="9144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4191120" y="5410080"/>
            <a:ext cx="761760" cy="68580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4191120" y="2285640"/>
            <a:ext cx="761760" cy="388620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0:02:35Z</dcterms:created>
  <dc:creator>OCDSB User</dc:creator>
  <dc:description/>
  <dc:language>en-US</dc:language>
  <cp:lastModifiedBy>McKillop, Tim</cp:lastModifiedBy>
  <dcterms:modified xsi:type="dcterms:W3CDTF">2014-02-12T13:58:25Z</dcterms:modified>
  <cp:revision>9</cp:revision>
  <dc:subject/>
  <dc:title>Contour Lines and Vertical Profiles</dc:title>
</cp:coreProperties>
</file>