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0D2-65A9-4585-886C-D31C530B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AD84-8F54-42AF-9E64-51849B4E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EED-69C0-44A6-8F54-96246981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F10-BC8D-4A09-B99E-2B7234BD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ADA-0A42-4180-BBC8-375CAE9C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2FE8-D88A-4FD4-BFE6-7DB4BF42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3FD-E131-4A60-91DA-B881713F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FC2-8BA9-4989-9322-8F3A2B18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60F-4634-4BF9-BBD1-FCDDEE9C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406-BC35-4AC6-B486-FAC8483A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235-F974-4D78-BF8E-F5CC6544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5DE-AA9D-4946-BE2C-2BF870BE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0A6B-95EE-4285-B201-E8BC98021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our Lines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d Vertical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pographic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isobars"/>
          <p:cNvPicPr/>
          <p:nvPr/>
        </p:nvPicPr>
        <p:blipFill>
          <a:blip r:embed="rId1"/>
          <a:stretch/>
        </p:blipFill>
        <p:spPr>
          <a:xfrm>
            <a:off x="380880" y="838080"/>
            <a:ext cx="8305920" cy="5639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4" name="Text Box 9"/>
          <p:cNvSpPr/>
          <p:nvPr/>
        </p:nvSpPr>
        <p:spPr>
          <a:xfrm>
            <a:off x="380880" y="3049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the lines on this map measuring?   What do they repres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our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Isolin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 a line on a map that links points with equal values.  (“iso” means “equal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.g.  Atmospheric pressure: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pth under water: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ob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ecipitation: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oh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Contour Line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re a type of isoline that represent areas of equal elevation on a map.  Th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contour interval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the distance between each contour lines (e.g. 20 meters).  Th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index contou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a thicker contour line with the elevation written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tour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ontour_anatomy"/>
          <p:cNvPicPr/>
          <p:nvPr/>
        </p:nvPicPr>
        <p:blipFill>
          <a:blip r:embed="rId1"/>
          <a:stretch/>
        </p:blipFill>
        <p:spPr>
          <a:xfrm>
            <a:off x="304920" y="1219320"/>
            <a:ext cx="8458200" cy="5375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our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ontour lines"/>
          <p:cNvPicPr/>
          <p:nvPr/>
        </p:nvPicPr>
        <p:blipFill>
          <a:blip r:embed="rId1"/>
          <a:stretch/>
        </p:blipFill>
        <p:spPr>
          <a:xfrm>
            <a:off x="609480" y="1523880"/>
            <a:ext cx="366732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Oval 6"/>
          <p:cNvSpPr/>
          <p:nvPr/>
        </p:nvSpPr>
        <p:spPr>
          <a:xfrm>
            <a:off x="1371600" y="3657600"/>
            <a:ext cx="4572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3657600" y="3429000"/>
            <a:ext cx="45720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contour lines_stream"/>
          <p:cNvPicPr/>
          <p:nvPr/>
        </p:nvPicPr>
        <p:blipFill>
          <a:blip r:embed="rId2"/>
          <a:stretch/>
        </p:blipFill>
        <p:spPr>
          <a:xfrm>
            <a:off x="4495680" y="1523880"/>
            <a:ext cx="4114800" cy="449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Oval 10"/>
          <p:cNvSpPr/>
          <p:nvPr/>
        </p:nvSpPr>
        <p:spPr>
          <a:xfrm>
            <a:off x="5943600" y="2514600"/>
            <a:ext cx="609480" cy="6094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5257800" y="3657600"/>
            <a:ext cx="609480" cy="53352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 flipH="1">
            <a:off x="6019920" y="3276720"/>
            <a:ext cx="457200" cy="1752480"/>
          </a:xfrm>
          <a:prstGeom prst="line">
            <a:avLst/>
          </a:prstGeom>
          <a:ln w="316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495680" y="60958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opographic maps, contours point upstr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 flipH="1">
            <a:off x="1676160" y="251460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3124080" y="251460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236232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Same Ele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rtical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vertical profile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51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our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the contour with the appropriate vertical profi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ontour_quiz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49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Line 15"/>
          <p:cNvSpPr/>
          <p:nvPr/>
        </p:nvSpPr>
        <p:spPr>
          <a:xfrm>
            <a:off x="4343400" y="2286000"/>
            <a:ext cx="685800" cy="6094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4267080" y="3048120"/>
            <a:ext cx="76212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4343400" y="3962520"/>
            <a:ext cx="609480" cy="5331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"/>
          <p:cNvSpPr/>
          <p:nvPr/>
        </p:nvSpPr>
        <p:spPr>
          <a:xfrm flipV="1">
            <a:off x="4191120" y="3809880"/>
            <a:ext cx="761760" cy="91440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4191120" y="5410080"/>
            <a:ext cx="761760" cy="685800"/>
          </a:xfrm>
          <a:prstGeom prst="line">
            <a:avLst/>
          </a:prstGeom>
          <a:ln w="255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 flipV="1">
            <a:off x="4191120" y="2285640"/>
            <a:ext cx="761760" cy="3886200"/>
          </a:xfrm>
          <a:prstGeom prst="line">
            <a:avLst/>
          </a:prstGeom>
          <a:ln w="255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20:02:35Z</dcterms:created>
  <dc:creator>OCDSB User</dc:creator>
  <dc:description/>
  <dc:language>en-US</dc:language>
  <cp:lastModifiedBy>McKillop, Tim</cp:lastModifiedBy>
  <dcterms:modified xsi:type="dcterms:W3CDTF">2014-02-12T13:58:25Z</dcterms:modified>
  <cp:revision>9</cp:revision>
  <dc:subject/>
  <dc:title>Contour Lines and Vertical Profiles</dc:title>
</cp:coreProperties>
</file>