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2EE-A09D-4B60-BEF8-0F27CF39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FF2-880E-4BBF-8E32-F2F49D4B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07B-3481-434B-BA13-DE8850E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898-55D9-4AA0-A916-769CDEC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B90-EC80-4277-ADC8-1495A79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1EC-6A56-4064-BDC0-150AC4A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E5B-344D-4AC1-8221-2AEE2FD4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1C0-B389-48CB-A03E-37D69ABA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2E0-F50C-45F8-B7BB-965B3B25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C0E-FFC0-4525-AAB2-4A1044B6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A29-32CB-4328-A7DF-516ED89D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96B-6309-41FD-AC29-39738CC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699A-F283-4779-9763-49744FEBA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Vertica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pograph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sobars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63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3808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lines on this map measuring?   What do they re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soli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a line on a map that links points with equal values.  (“iso” means “equ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  Atmospheric pressure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th under water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cipitation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h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Lin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a type of isoline that represent areas of equal elevation on a map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interv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distance between each contour lines (e.g. 20 meters)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ndex contou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thicker contour line with the elevation writt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ntour_anatomy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37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ntour lines"/>
          <p:cNvPicPr/>
          <p:nvPr/>
        </p:nvPicPr>
        <p:blipFill>
          <a:blip r:embed="rId1"/>
          <a:stretch/>
        </p:blipFill>
        <p:spPr>
          <a:xfrm>
            <a:off x="609480" y="1523880"/>
            <a:ext cx="3667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Oval 6"/>
          <p:cNvSpPr/>
          <p:nvPr/>
        </p:nvSpPr>
        <p:spPr>
          <a:xfrm>
            <a:off x="1371600" y="3657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657600" y="342900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ntour lines_stream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Oval 10"/>
          <p:cNvSpPr/>
          <p:nvPr/>
        </p:nvSpPr>
        <p:spPr>
          <a:xfrm>
            <a:off x="5943600" y="2514600"/>
            <a:ext cx="609480" cy="6094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6019920" y="3276720"/>
            <a:ext cx="457200" cy="1752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6095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ographic maps, contours point up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1676160" y="25146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124080" y="25146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362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am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tical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ertical profile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1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our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ontour with the appropriate vertical prof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our_quiz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Line 15"/>
          <p:cNvSpPr/>
          <p:nvPr/>
        </p:nvSpPr>
        <p:spPr>
          <a:xfrm>
            <a:off x="4343400" y="2286000"/>
            <a:ext cx="685800" cy="609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267080" y="3048120"/>
            <a:ext cx="76212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343400" y="3962520"/>
            <a:ext cx="60948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4191120" y="3809880"/>
            <a:ext cx="761760" cy="914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4191120" y="5410080"/>
            <a:ext cx="761760" cy="68580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4191120" y="2285640"/>
            <a:ext cx="761760" cy="388620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02:35Z</dcterms:created>
  <dc:creator>OCDSB User</dc:creator>
  <dc:description/>
  <dc:language>en-US</dc:language>
  <cp:lastModifiedBy>McKillop, Tim</cp:lastModifiedBy>
  <dcterms:modified xsi:type="dcterms:W3CDTF">2014-02-12T13:58:25Z</dcterms:modified>
  <cp:revision>9</cp:revision>
  <dc:subject/>
  <dc:title>Contour Lines and Vertical Profiles</dc:title>
</cp:coreProperties>
</file>