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F52E-0E93-47FD-82AD-12F680FE3D9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151E-0C59-4EE9-AC32-2F9DEDDD343F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BC56-5070-4945-B064-A7FF87E0B2BA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4E10-2220-4EC8-88A3-3B49B307AA71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3DC9-0F42-4CA3-A9EB-C854B9DF69B2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BC2D-64FD-422A-9DFF-F1CFDDD91991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7984-2AA2-41E0-B98A-9C981262EC80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8902-35AB-4FAC-BD2B-FB14E244E3A8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DA1F-E42A-49A5-913C-9F94967FE8A8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367A-6144-44DF-A168-E4E23A60433D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0B3C-526C-4C78-8314-5CDA24B0FA4E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6F3F-519A-4CE7-BBFE-B73160340D72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771D-0CF0-4B8E-B746-4764B021ACA9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CABA-4254-477D-BFDD-F921B79183F7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2638-E907-45BE-893E-4B068A5101BC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3FC7-0250-45D2-927D-8E5A05B947DA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9E76-5291-4DB7-AD6D-32D1A972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3963-729E-4B54-9513-2587931C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CBE3-FE06-4B9D-8CD3-E65937FC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EAE2-53DA-4A53-9E7F-9A8FB002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4939-DB83-4BC8-8651-E6824550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3F1A-7A43-4214-BE0D-921B6177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8AFD-97DC-420C-8BEB-14AD4837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2A5B-7C4D-42F2-9AD1-A69CECE3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0C41-CB91-4E41-8319-B5167392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E6DD-D974-4212-90F1-7AF15DF8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B04E-88B2-4406-B769-D7091836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8473-59E1-405A-A6EA-8DE69790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076A-F648-4567-9F26-31C7562A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DB58-83E6-49E3-B532-5FBD0788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F098-6DC6-4F6F-A8D7-00B92D78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0B36-4F57-4610-9906-38823909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4E95-DDBD-4D6F-A58A-3319542B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AEC8-8363-4F5E-82DA-F40B61EE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B5EA-9E37-4982-9BB0-4E5B6010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9DC9-FAD9-48A5-827D-58008CB5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461E-6852-4751-A12F-63DE081C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A379-6EA0-45D8-8E18-71CB634B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F4AA-2422-4F10-8763-F4F13776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39DC-A93A-4D93-A8E7-F6DCE874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396D-373F-4781-A41F-1DCAF45B0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C4A9-1F8F-416F-A4BA-BDDC60C593A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100" spc="-1" strike="noStrike">
                <a:solidFill>
                  <a:srgbClr val="ffffcc"/>
                </a:solidFill>
                <a:latin typeface="Arial"/>
              </a:rPr>
              <a:t>Earthquak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eaeaea"/>
                </a:solidFill>
                <a:latin typeface="Verdana"/>
              </a:rPr>
              <a:t>CGC1P/1D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Picture 3" descr="Earthquake - Diagram of Waves"/>
          <p:cNvPicPr/>
          <p:nvPr/>
        </p:nvPicPr>
        <p:blipFill>
          <a:blip r:embed="rId1"/>
          <a:stretch/>
        </p:blipFill>
        <p:spPr>
          <a:xfrm>
            <a:off x="380880" y="2502000"/>
            <a:ext cx="8458200" cy="34178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533520" y="3443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P Wav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981080" y="34434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S Wav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1143000" y="45720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2438280" y="45720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6172200" y="243828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 Seismograph measures the intensity of earthquak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Picture 3" descr="Earthquake - Diagram of Waves"/>
          <p:cNvPicPr/>
          <p:nvPr/>
        </p:nvPicPr>
        <p:blipFill>
          <a:blip r:embed="rId1"/>
          <a:stretch/>
        </p:blipFill>
        <p:spPr>
          <a:xfrm>
            <a:off x="380880" y="2502000"/>
            <a:ext cx="8458200" cy="34178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533520" y="3443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P Wav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981080" y="34434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S Wav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800600" y="3443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L Wav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1143000" y="45720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2438280" y="45720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5410080" y="43434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6172200" y="243828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 Seismograph measures the intensity of earthquak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earthquake_trace_lrg"/>
          <p:cNvPicPr/>
          <p:nvPr/>
        </p:nvPicPr>
        <p:blipFill>
          <a:blip r:embed="rId1"/>
          <a:stretch/>
        </p:blipFill>
        <p:spPr>
          <a:xfrm>
            <a:off x="228600" y="243828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4876920" y="2093760"/>
            <a:ext cx="42670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By measuring the time between waves, scientists can figure out how far away the quakes wa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At least 3 stations around the world are needed to determine exactly where the earthquake occurred (a process called triangulation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4724280" y="2093760"/>
            <a:ext cx="44197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The Richter Scale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A scale of magnitude developed by Gutenberg and C.F. Richter in 1935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Scale is logarithmic (e.x. 4 on the Richter Scale is 10 times more powerful than a 3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Significant damage usually occurs at 5 and above on the scal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6" descr="seismometer_lrg"/>
          <p:cNvPicPr/>
          <p:nvPr/>
        </p:nvPicPr>
        <p:blipFill>
          <a:blip r:embed="rId1"/>
          <a:stretch/>
        </p:blipFill>
        <p:spPr>
          <a:xfrm>
            <a:off x="304920" y="2577960"/>
            <a:ext cx="4267080" cy="2832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Death &amp; Destructio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2" name="Picture 10" descr="Earthquake - Table of Highest Magnitudes"/>
          <p:cNvPicPr/>
          <p:nvPr/>
        </p:nvPicPr>
        <p:blipFill>
          <a:blip r:embed="rId1"/>
          <a:stretch/>
        </p:blipFill>
        <p:spPr>
          <a:xfrm>
            <a:off x="304920" y="2209680"/>
            <a:ext cx="6019560" cy="38037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1"/>
          <p:cNvSpPr/>
          <p:nvPr/>
        </p:nvSpPr>
        <p:spPr>
          <a:xfrm>
            <a:off x="6553080" y="2093760"/>
            <a:ext cx="23623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What factor(s) increase the death toll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What factor(s) increase the probability of property damage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What Do You Know About Earthquakes?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10" descr="china-earthquake-dams-getty-468"/>
          <p:cNvPicPr/>
          <p:nvPr/>
        </p:nvPicPr>
        <p:blipFill>
          <a:blip r:embed="rId1"/>
          <a:stretch/>
        </p:blipFill>
        <p:spPr>
          <a:xfrm>
            <a:off x="533520" y="3200400"/>
            <a:ext cx="4457520" cy="30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 – The Focus and the Epicenter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Picture 9" descr="earthquake"/>
          <p:cNvPicPr/>
          <p:nvPr/>
        </p:nvPicPr>
        <p:blipFill>
          <a:blip r:embed="rId1"/>
          <a:stretch/>
        </p:blipFill>
        <p:spPr>
          <a:xfrm>
            <a:off x="380880" y="2133720"/>
            <a:ext cx="4294440" cy="4495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"/>
          <p:cNvSpPr/>
          <p:nvPr/>
        </p:nvSpPr>
        <p:spPr>
          <a:xfrm>
            <a:off x="4876920" y="2133720"/>
            <a:ext cx="403848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Earthquak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udden massive fracturing of rock along a distinct fault plane. The movement is termed </a:t>
            </a: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STICK-SLIP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 – The Focus and the Epicenter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Picture 3" descr="earthquake"/>
          <p:cNvPicPr/>
          <p:nvPr/>
        </p:nvPicPr>
        <p:blipFill>
          <a:blip r:embed="rId1"/>
          <a:stretch/>
        </p:blipFill>
        <p:spPr>
          <a:xfrm>
            <a:off x="380880" y="2133720"/>
            <a:ext cx="4294440" cy="4495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4876920" y="2133720"/>
            <a:ext cx="40384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Earthquak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STICK -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Great stress is built up.  Rocks are able to stick due to interlocking of the grains of which they are buil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 – The Focus and the Epicenter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Picture 3" descr="earthquake"/>
          <p:cNvPicPr/>
          <p:nvPr/>
        </p:nvPicPr>
        <p:blipFill>
          <a:blip r:embed="rId1"/>
          <a:stretch/>
        </p:blipFill>
        <p:spPr>
          <a:xfrm>
            <a:off x="380880" y="2133720"/>
            <a:ext cx="4294440" cy="44956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4876920" y="2133720"/>
            <a:ext cx="40384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Earthquak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SLIP –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When stresses are too great the plates slip past each othe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 – The Focus and the Epicenter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Picture 3" descr="earthquake"/>
          <p:cNvPicPr/>
          <p:nvPr/>
        </p:nvPicPr>
        <p:blipFill>
          <a:blip r:embed="rId1"/>
          <a:stretch/>
        </p:blipFill>
        <p:spPr>
          <a:xfrm>
            <a:off x="380880" y="2133720"/>
            <a:ext cx="4294440" cy="44956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4876920" y="2133720"/>
            <a:ext cx="4038480" cy="36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Earthquak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ENERGY RELEASE –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Expanded in the form of “shock waves”.  Waves travel from the point of slippage (focus) though rock either along the surface or directly through the earth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152280" y="1803240"/>
          <a:ext cx="60534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03240"/>
                    <a:ext cx="60534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5" descr="012905-1"/>
          <p:cNvPicPr/>
          <p:nvPr/>
        </p:nvPicPr>
        <p:blipFill>
          <a:blip r:embed="rId3"/>
          <a:stretch/>
        </p:blipFill>
        <p:spPr>
          <a:xfrm>
            <a:off x="5315040" y="3548160"/>
            <a:ext cx="3676680" cy="315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Picture 5" descr="Earthquake - Diagram of Waves"/>
          <p:cNvPicPr/>
          <p:nvPr/>
        </p:nvPicPr>
        <p:blipFill>
          <a:blip r:embed="rId1"/>
          <a:stretch/>
        </p:blipFill>
        <p:spPr>
          <a:xfrm>
            <a:off x="380880" y="2514600"/>
            <a:ext cx="8458200" cy="34178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6172200" y="243828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 Seismograph measures the intensity of earthquak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5" name="Picture 3" descr="Earthquake - Diagram of Waves"/>
          <p:cNvPicPr/>
          <p:nvPr/>
        </p:nvPicPr>
        <p:blipFill>
          <a:blip r:embed="rId1"/>
          <a:stretch/>
        </p:blipFill>
        <p:spPr>
          <a:xfrm>
            <a:off x="380880" y="2502000"/>
            <a:ext cx="8458200" cy="3417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533520" y="3443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P Wav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1143000" y="45720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172200" y="243828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 Seismograph measures the intensity of earthquak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1:31:29Z</dcterms:created>
  <dc:creator>Customer</dc:creator>
  <dc:description/>
  <dc:language>en-US</dc:language>
  <cp:lastModifiedBy>McKillop, Tim</cp:lastModifiedBy>
  <dcterms:modified xsi:type="dcterms:W3CDTF">2014-03-16T16:25:40Z</dcterms:modified>
  <cp:revision>32</cp:revision>
  <dc:subject/>
  <dc:title>Slide 1</dc:title>
</cp:coreProperties>
</file>