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B4B2-4C18-498E-B41C-81599979BF9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18D-87A6-4AF4-A232-7890BE8FD03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D0D-8480-4C54-B5BD-BE86C0BD5B6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29C-614D-4A47-9EB9-CFB26721519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F78-EA28-4E30-861A-E2D28878BBF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8BF-A09C-4267-88DC-808C7E53212F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E32C-6444-40AC-9826-B74E63C8CC2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E0B-1A88-4866-9532-9011ED89BE5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A900-F034-4015-A3A3-7850B80C1F3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6CE1-C0E7-4FDF-9878-DFCDBA6EB68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A873-7C8F-4F89-B338-D8753954F9E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3CC-01AD-4859-BFC0-E5D64A87473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69D3-598B-4FDF-8392-A4C1E3F34CF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674-6DBA-4942-972E-30C4E093DF9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1CBE-0019-4B2A-B9E5-485CACB50FA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779F-E726-49BF-AF78-ADEF22280C8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4A3-79A8-4617-A0A8-8E3AAE6A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165-EF3D-4EBB-9A36-245D3429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EC1-8211-4402-A9E4-855A73DD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E2D-5DAE-4F70-961B-EA9B3FC3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30B5-ECA7-4D45-B4C2-BF75FC3F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10B-4371-4BFE-8E58-F6150013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27A3-5F87-4F96-B287-44FF40CA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30FB-1D15-4F35-8155-E1D73A36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8A1-CAC4-4973-8A87-69C189B6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C37-AC9D-425E-887A-C2893F81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49F-9D8B-4943-98E6-FFF2B587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5A2-5170-4406-A405-12D2B185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E93-9AD8-4FFC-9187-CB9788F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65D2-3524-420B-9A6F-E070D0F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F8BE-CEE5-4F4E-A9DC-811E625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764D-9AF0-4D17-A6B0-4CF7ED43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B3B-8A97-41B7-9F5E-E0740A35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C53-3933-4B47-A8FB-110EBCD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2D0-D860-44EC-AFA0-05B856E7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5E4-A9C7-4488-AB17-802C2B1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EA2-368A-49DE-B04F-EBCD646E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BBC-6012-417A-8CE3-8BE01AA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4EE-A084-4477-BA53-D02B501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B90-2E35-4A5C-BC45-4F1043F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C651-8F36-4C6F-B905-FF6159A1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2A4-8582-4185-BBEB-D5747B07DBD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100" spc="-1" strike="noStrike">
                <a:solidFill>
                  <a:srgbClr val="ffffcc"/>
                </a:solidFill>
                <a:latin typeface="Arial"/>
              </a:rPr>
              <a:t>Earthquak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eaeaea"/>
                </a:solidFill>
                <a:latin typeface="Verdana"/>
              </a:rPr>
              <a:t>CGC1P/1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earthquake_trace_lrg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6" descr="seismometer_lrg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10" descr="Earthquake - Table of Highest Magnitudes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0" descr="china-earthquake-dams-getty-468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9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012905-1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5" descr="Earthquake - Diagram of Waves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6T16:25:40Z</dcterms:modified>
  <cp:revision>32</cp:revision>
  <dc:subject/>
  <dc:title>Slide 1</dc:title>
</cp:coreProperties>
</file>