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F7E2-7E98-4D3E-85C4-1FEDA8B0BF1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FB55-4F3D-4FA5-A95D-70AE3EE7BE2C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7576-26B4-439B-9CDD-F90B01FB663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9EF-FA6E-4057-8C14-E1FBFA61A53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8BF2-E71E-4593-9E06-98A309DAB201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D0C8-4629-4C10-8B26-8F92B89D801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317A-72F0-4D31-A930-5D527F2886F3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D134-77A0-4D13-A10E-2C280558884A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3A62-A034-451D-A330-08DBACD98D15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0A55-DA20-4686-8F01-796C9CEB1537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D32-455E-42C6-90E9-2898C683E67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BE0E-B450-4629-B3C7-364B98B960F2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4141-2C10-4BCE-9641-CD982A316CDB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4D29-2538-47DE-B78A-5693D784D919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D42E-48EF-4DA6-B98F-90B99D15D127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7A98-7092-410A-81EC-4DA0E31E9EAD}" type="slidenum">
              <a:rPr b="0" lang="en-C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DD9-7F9E-413D-A30A-764684B8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639-5454-4364-B1E5-AFB205AF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E5F-014C-48FF-92B9-087AE580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4A0-11B4-40A1-8C89-001E17DE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E8B5-5E72-4D5F-BE3E-D3A645CB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6823-8E99-4C17-9579-6B691C4A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FB1F-1816-4FEB-AF4C-07DAF952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FDDF-E73E-4E94-8E1E-2F4C56A6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0E48-E101-45B7-A55D-BA77928E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BB68-8942-43B3-A2C2-B9270F1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98AE-BDFB-4A86-BDC5-10135627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708-7614-4AB1-9080-52AC5615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C600-A8BA-4461-892F-CCC43DF2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280F-F367-486C-A563-8931319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0837-A9BC-4A2E-BCC9-B8636F6D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507E-C8FC-43A1-9E19-9A2D9708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149C-D4F4-4CB0-B749-8019CD89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135-B53B-4CFD-B2D4-F4757938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04D-069E-44A7-AD63-28AADFAE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631-4057-460F-9CB2-ED809CA8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A72-0658-4E4E-AEA3-2205E637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D1A-F151-4CF5-9995-FB02464D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D37-490C-47BA-8C21-CD3AD461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BC0-0BF1-487A-96F8-2B48D94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10ED-E94D-4F8D-B4CB-E6F8CF36F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1C49-20EA-4BFF-BEA1-80939F8C69F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100" spc="-1" strike="noStrike">
                <a:solidFill>
                  <a:srgbClr val="ffffcc"/>
                </a:solidFill>
                <a:latin typeface="Arial"/>
              </a:rPr>
              <a:t>Earthquak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eaeaea"/>
                </a:solidFill>
                <a:latin typeface="Verdana"/>
              </a:rPr>
              <a:t>CGC1P/1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981080" y="34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0060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243828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earthquake_trace_lrg"/>
          <p:cNvPicPr/>
          <p:nvPr/>
        </p:nvPicPr>
        <p:blipFill>
          <a:blip r:embed="rId1"/>
          <a:stretch/>
        </p:blipFill>
        <p:spPr>
          <a:xfrm>
            <a:off x="228600" y="24382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876920" y="2093760"/>
            <a:ext cx="426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By measuring the time between waves, scientists can figure out how far away the quakes wa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t least 3 stations around the world are needed to determine exactly where the earthquake occurred (a process called triangulation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4724280" y="2093760"/>
            <a:ext cx="44197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The Richter Scal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A scale of magnitude developed by Gutenberg and C.F. Richter in 193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cale is logarithmic (e.x. 4 on the Richter Scale is 10 times more powerful than a 3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Significant damage usually occurs at 5 and above on the scal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6" descr="seismometer_lrg"/>
          <p:cNvPicPr/>
          <p:nvPr/>
        </p:nvPicPr>
        <p:blipFill>
          <a:blip r:embed="rId1"/>
          <a:stretch/>
        </p:blipFill>
        <p:spPr>
          <a:xfrm>
            <a:off x="304920" y="2577960"/>
            <a:ext cx="4267080" cy="283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Death &amp; Destruction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10" descr="Earthquake - Table of Highest Magnitudes"/>
          <p:cNvPicPr/>
          <p:nvPr/>
        </p:nvPicPr>
        <p:blipFill>
          <a:blip r:embed="rId1"/>
          <a:stretch/>
        </p:blipFill>
        <p:spPr>
          <a:xfrm>
            <a:off x="304920" y="2209680"/>
            <a:ext cx="6019560" cy="3803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553080" y="2093760"/>
            <a:ext cx="23623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death toll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Verdana"/>
              </a:rPr>
              <a:t>What factor(s) increase the probability of property damage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What Do You Know About Earthquakes?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10" descr="china-earthquake-dams-getty-468"/>
          <p:cNvPicPr/>
          <p:nvPr/>
        </p:nvPicPr>
        <p:blipFill>
          <a:blip r:embed="rId1"/>
          <a:stretch/>
        </p:blipFill>
        <p:spPr>
          <a:xfrm>
            <a:off x="533520" y="3200400"/>
            <a:ext cx="4457520" cy="3019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9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4876920" y="2133720"/>
            <a:ext cx="40384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Sudden massive fracturing of rock along a distinct fault plane. The movement is termed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-SL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876920" y="2133720"/>
            <a:ext cx="40384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TICK -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Great stress is built up.  Rocks are able to stick due to interlocking of the grains of which they are buil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876920" y="2133720"/>
            <a:ext cx="40384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LIP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When stresses are too great the plates slip past each oth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 – The Focus and the Epicenter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3" descr="earthquake"/>
          <p:cNvPicPr/>
          <p:nvPr/>
        </p:nvPicPr>
        <p:blipFill>
          <a:blip r:embed="rId1"/>
          <a:stretch/>
        </p:blipFill>
        <p:spPr>
          <a:xfrm>
            <a:off x="380880" y="2133720"/>
            <a:ext cx="429444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4876920" y="2133720"/>
            <a:ext cx="403848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Earthquak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ENERGY RELEASE –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xpanded in the form of “shock waves”.  Waves travel from the point of slippage (focus) though rock either along the surface or directly through the earth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52280" y="1803240"/>
          <a:ext cx="60534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03240"/>
                    <a:ext cx="60534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5" descr="012905-1"/>
          <p:cNvPicPr/>
          <p:nvPr/>
        </p:nvPicPr>
        <p:blipFill>
          <a:blip r:embed="rId3"/>
          <a:stretch/>
        </p:blipFill>
        <p:spPr>
          <a:xfrm>
            <a:off x="5315040" y="3548160"/>
            <a:ext cx="36766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5" descr="Earthquake - Diagram of Waves"/>
          <p:cNvPicPr/>
          <p:nvPr/>
        </p:nvPicPr>
        <p:blipFill>
          <a:blip r:embed="rId1"/>
          <a:stretch/>
        </p:blipFill>
        <p:spPr>
          <a:xfrm>
            <a:off x="380880" y="25146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Earthquake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Palatino Linotype"/>
              </a:rPr>
              <a:t>The Shock Wav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3" descr="Earthquake - Diagram of Waves"/>
          <p:cNvPicPr/>
          <p:nvPr/>
        </p:nvPicPr>
        <p:blipFill>
          <a:blip r:embed="rId1"/>
          <a:stretch/>
        </p:blipFill>
        <p:spPr>
          <a:xfrm>
            <a:off x="380880" y="2502000"/>
            <a:ext cx="8458200" cy="3417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533520" y="3443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 Wav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143000" y="4572000"/>
            <a:ext cx="0" cy="6094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172200" y="243828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Seismograph measures the intensity of earthquak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1:31:29Z</dcterms:created>
  <dc:creator>Customer</dc:creator>
  <dc:description/>
  <dc:language>en-US</dc:language>
  <cp:lastModifiedBy>McKillop, Tim</cp:lastModifiedBy>
  <dcterms:modified xsi:type="dcterms:W3CDTF">2014-03-16T16:25:40Z</dcterms:modified>
  <cp:revision>32</cp:revision>
  <dc:subject/>
  <dc:title>Slide 1</dc:title>
</cp:coreProperties>
</file>