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E508-3D86-4AC4-8943-380FB7CE486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5596-1E9C-44D8-973A-B4230FABCF6D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364-1818-4945-A565-AF6633AE17E7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1EB0-7CEC-471F-9A3D-7A196263DF7D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392B-C128-4486-91B1-2EC0FC2E2BF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7CA4-3DB3-48C2-9BC3-3B611ACE6CC5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D759-5F99-412C-96FB-377980071812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F526-CBFE-408C-AAE0-40471576CB0A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CA62-9467-4099-9D52-EF4805851D2B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55C4-A44E-4539-8DCB-B6A26BBA231E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9CD9-3CC0-40F1-8D82-862D36CE7AD8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859E-7D96-423C-A906-1811F9016F24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74CB-E923-4A57-8B5B-370EC954808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C70A-CB0C-45D0-85CC-B1AF36E4C57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9C89-F303-4AFC-9EAB-F2CECE31BBF9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B143-80B3-4850-8F4C-C667BCDC8322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845-4E85-44B2-90FD-48343A81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10F-81FB-4D07-AE0C-4A2AC4EB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E25-7CE3-46C1-AFB1-D7EFA0EB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638-DB8C-4B91-AACA-8693E33A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8FD0-98D8-4AA8-A47D-8F07DAE3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BD3C-6158-4EDF-916F-4624B983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8FD2-C805-4BC8-8307-4503FFA3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BA08-BA4D-454C-8566-6A58EF35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C3A1-B0C5-4C4D-B25F-8E32D0E1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AA9B-B5F1-471B-9D4D-BB8F58E1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FA2B-224A-43F9-8D18-06BB222D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1BE-08CA-4C11-BD6A-2D315772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B557-55FB-43DD-B397-FF1C715A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44CB-6608-41B0-8EFF-B6A6E3A8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F96E-5F67-4D97-B03A-2DCA8AFC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D0D7-CA90-4C5A-B022-5208497E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8AAF-9A76-46DA-8D68-2328FBA4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D99-DBD6-42AA-8B5D-534016F5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C9C-ADFF-48CB-B891-01EA44DB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515-5919-4D4B-B8F4-00DA0E1F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87C-F3BC-4CC4-B2A3-FE18D4C2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DC6-4C6A-43D5-A00E-8CB8DA2C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4D8-4FF1-43C5-A833-20C5BE8D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B02-0A54-41B1-A917-EEB41CDD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65E0-5B11-482B-9F6D-0D22C406F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9A15-D5FD-4C79-9D5D-F5250167802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100" spc="-1" strike="noStrike">
                <a:solidFill>
                  <a:srgbClr val="ffffcc"/>
                </a:solidFill>
                <a:latin typeface="Arial"/>
              </a:rPr>
              <a:t>Earthquak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eaeaea"/>
                </a:solidFill>
                <a:latin typeface="Verdana"/>
              </a:rPr>
              <a:t>CGC1P/1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3" descr="Earthquake - Diagram of Waves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981080" y="34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3" descr="Earthquake - Diagram of Waves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981080" y="34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80060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earthquake_trace_lrg"/>
          <p:cNvPicPr/>
          <p:nvPr/>
        </p:nvPicPr>
        <p:blipFill>
          <a:blip r:embed="rId1"/>
          <a:stretch/>
        </p:blipFill>
        <p:spPr>
          <a:xfrm>
            <a:off x="228600" y="24382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4876920" y="2093760"/>
            <a:ext cx="426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By measuring the time between waves, scientists can figure out how far away the quakes wa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At least 3 stations around the world are needed to determine exactly where the earthquake occurred (a process called triangulation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4724280" y="2093760"/>
            <a:ext cx="4419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The Richter Scal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A scale of magnitude developed by Gutenberg and C.F. Richter in 193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Scale is logarithmic (e.x. 4 on the Richter Scale is 10 times more powerful than a 3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Significant damage usually occurs at 5 and above on the sca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6" descr="seismometer_lrg"/>
          <p:cNvPicPr/>
          <p:nvPr/>
        </p:nvPicPr>
        <p:blipFill>
          <a:blip r:embed="rId1"/>
          <a:stretch/>
        </p:blipFill>
        <p:spPr>
          <a:xfrm>
            <a:off x="304920" y="2577960"/>
            <a:ext cx="4267080" cy="283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Death &amp; Destruct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10" descr="Earthquake - Table of Highest Magnitudes"/>
          <p:cNvPicPr/>
          <p:nvPr/>
        </p:nvPicPr>
        <p:blipFill>
          <a:blip r:embed="rId1"/>
          <a:stretch/>
        </p:blipFill>
        <p:spPr>
          <a:xfrm>
            <a:off x="304920" y="2209680"/>
            <a:ext cx="6019560" cy="3803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553080" y="2093760"/>
            <a:ext cx="2362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What factor(s) increase the death toll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What factor(s) increase the probability of property damag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What Do You Know About Earthquakes?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10" descr="china-earthquake-dams-getty-468"/>
          <p:cNvPicPr/>
          <p:nvPr/>
        </p:nvPicPr>
        <p:blipFill>
          <a:blip r:embed="rId1"/>
          <a:stretch/>
        </p:blipFill>
        <p:spPr>
          <a:xfrm>
            <a:off x="533520" y="3200400"/>
            <a:ext cx="4457520" cy="30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9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4876920" y="2133720"/>
            <a:ext cx="40384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udden massive fracturing of rock along a distinct fault plane. The movement is termed </a:t>
            </a: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TICK-SL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3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876920" y="2133720"/>
            <a:ext cx="40384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TICK -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Great stress is built up.  Rocks are able to stick due to interlocking of the grains of which they are buil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3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4876920" y="2133720"/>
            <a:ext cx="40384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LIP –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When stresses are too great the plates slip past each oth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3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4876920" y="2133720"/>
            <a:ext cx="40384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NERGY RELEASE –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xpanded in the form of “shock waves”.  Waves travel from the point of slippage (focus) though rock either along the surface or directly through the earth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52280" y="1803240"/>
          <a:ext cx="605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03240"/>
                    <a:ext cx="605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5" descr="012905-1"/>
          <p:cNvPicPr/>
          <p:nvPr/>
        </p:nvPicPr>
        <p:blipFill>
          <a:blip r:embed="rId3"/>
          <a:stretch/>
        </p:blipFill>
        <p:spPr>
          <a:xfrm>
            <a:off x="5315040" y="3548160"/>
            <a:ext cx="367668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5" descr="Earthquake - Diagram of Waves"/>
          <p:cNvPicPr/>
          <p:nvPr/>
        </p:nvPicPr>
        <p:blipFill>
          <a:blip r:embed="rId1"/>
          <a:stretch/>
        </p:blipFill>
        <p:spPr>
          <a:xfrm>
            <a:off x="380880" y="25146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3" descr="Earthquake - Diagram of Waves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McKillop, Tim</cp:lastModifiedBy>
  <dcterms:modified xsi:type="dcterms:W3CDTF">2014-03-16T16:25:40Z</dcterms:modified>
  <cp:revision>32</cp:revision>
  <dc:subject/>
  <dc:title>Slide 1</dc:title>
</cp:coreProperties>
</file>