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93FB-A3FB-4373-9302-5F68A641BD3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1F24-3628-4A17-BDE0-903FAD055CE5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7F64-5BCC-4BD0-ADD8-DE1C400E5BA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CC9A-D736-4ED7-A4EA-810034AD11F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1416-3839-4BEA-953A-AB3C4C40316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44A3-B81D-4970-A665-C8F5D936A13F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A00-3723-4C7E-A8AD-44F1CD593C0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F0C-B58A-42D3-B43E-C6DADFE3186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262B-CF9C-4891-86E7-08D3C7C97D55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A0FE-386C-4A7C-97E1-781A82CEEFD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211-204F-487E-92FB-7AA67EE2259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FA39-7652-4F53-9909-44B14B6FA6F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E9AB-E28C-48DB-A794-E57FD99DECD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0EE-AEF1-4EC7-B449-3E18783BD948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EA04-1BC1-44E4-970F-7242AEFF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C91-D28B-4396-A41C-CE28234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A97-996E-43C7-AAAE-48C2DAC2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203-D86C-4872-A9C1-E50FB282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7E4-53C2-475A-94EC-37E0BD9A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126-0A7B-41C3-88AA-87864398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B325-87A4-4810-B115-FB0221F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897B-01AD-4CEB-A83E-EEBA9574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6512-EFA2-4C02-BD20-0F80E06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C96D-1981-4928-B77A-9DCD5194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95E-8147-483E-A3B8-CB73832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0E8-676E-4262-AE02-ACBC54D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0A8E-648B-4FFB-810A-7481D80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211C-20BC-4899-809F-C9BBA9A2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F6F6-1E9A-4B08-B9FC-4A4A1CE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3D4E-5E30-42D5-A19C-1FE2588B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376D-441E-4E0E-A4A8-450B4B87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C49-B7FA-4E25-8812-ED52112A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31-B876-4FF3-8AA3-8160E43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F27-B15B-4F7E-B833-4020D9B5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515-6EB2-4A92-98E4-C9C12DE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E6F-3ED0-4604-AB66-FC60E75E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409-BD1A-4CBA-821B-84B1538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D71-24D9-4873-A160-28AF26B7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483F-BFE3-4673-A779-4F03D18F9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A475-3C17-43F5-AD0E-4B4CE82FDCD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6" descr="727E052D"/>
          <p:cNvPicPr/>
          <p:nvPr/>
        </p:nvPicPr>
        <p:blipFill>
          <a:blip r:embed="rId1"/>
          <a:stretch/>
        </p:blipFill>
        <p:spPr>
          <a:xfrm>
            <a:off x="685800" y="196848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 rot="20499600">
            <a:off x="833040" y="4083120"/>
            <a:ext cx="456876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ountain Building and Eros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2" descr="nopminga_figure1_small"/>
          <p:cNvPicPr/>
          <p:nvPr/>
        </p:nvPicPr>
        <p:blipFill>
          <a:blip r:embed="rId1"/>
          <a:stretch/>
        </p:blipFill>
        <p:spPr>
          <a:xfrm>
            <a:off x="457200" y="3200400"/>
            <a:ext cx="51814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 &amp;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162920" y="1600200"/>
            <a:ext cx="19810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Two Constant Fo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ere is always competition between these forces to shape the landscape of the Earth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819520" y="2362320"/>
            <a:ext cx="18288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0" y="1938240"/>
            <a:ext cx="22860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0" y="1938240"/>
            <a:ext cx="2286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Ex. The Rocky Mountains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 rot="1893000">
            <a:off x="1365120" y="2761920"/>
            <a:ext cx="2590920" cy="110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 rot="1079400">
            <a:off x="690120" y="3088800"/>
            <a:ext cx="28195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7T14:28:57Z</dcterms:modified>
  <cp:revision>39</cp:revision>
  <dc:subject/>
  <dc:title>Slide 1</dc:title>
</cp:coreProperties>
</file>