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5D8-9CB3-48C1-AFC9-7840E51DFA6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EBBC-1BEA-4565-BCA6-2155C7471A47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B7AF-0332-46D7-B21B-D19E3EAFBE36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B1A5-4C0E-4447-AD31-59D7A3A1DE0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1A5A-61E7-4DEF-9D4E-45F40B1B509E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13E1-3BBA-44F6-A2AF-DDCC2AF8226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52A3-6F2A-4E0D-8C32-A67B347563CE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56E-BE2E-49B4-B3A2-8D32D79C083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9A87-7200-4FF3-95C0-7602F72475AB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6497-98AC-40A7-810F-7B1B64C82840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20A-7815-43A5-B1D7-41922BFE6CB6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46E2-3D84-4161-97D1-BFB05665810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488E-711B-4364-9997-9B37F2E14184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A4BF-A887-4FCD-9993-72F926DB145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E46-5A0D-42C6-8F89-CA345189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6D0-5FFD-4210-ADFD-AD2C07C1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B3B-C771-4F37-B0AA-33B009A5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283-284F-490C-976D-803F5B75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47D5-30D7-49E1-B071-A0D730F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F427-DF40-48DA-AF2B-F16FA01C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E0D1-459C-469F-B4B8-A40088F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A131-5C32-43A0-B633-5CFDB905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9884-AF9E-4A62-A9E3-B292233E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D1D-E801-4068-A434-CEF303F0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C160-1F9A-4E8C-9F4A-1503E18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A6F-8C15-40C4-BBF7-4217A437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6CF0-196C-41FD-AA44-C2519E4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DD6D-5693-4ADD-80E8-7E8933C6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345-8D6E-4281-910A-60CC3C6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305E-B067-4166-A188-2FA19729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8D6A-CBEE-4CEE-BADD-B45A716D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CA5-ED45-4162-9D14-C9A4C07E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5B8-5B62-4A7B-9C7F-B716A129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1FB-E1CA-48A9-8F41-C196BB1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8DC-8563-48E3-B204-C161FD0D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38D-193C-414D-8C63-0A303BD4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784-799A-4042-97E7-69E76213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1EA-3CBE-4E44-BE83-7D6C076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ACD6-B7C5-43DE-BE49-ABADE3AF4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ADAF-34D0-4026-A6C5-EC63389636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6" descr="727E052D"/>
          <p:cNvPicPr/>
          <p:nvPr/>
        </p:nvPicPr>
        <p:blipFill>
          <a:blip r:embed="rId1"/>
          <a:stretch/>
        </p:blipFill>
        <p:spPr>
          <a:xfrm>
            <a:off x="685800" y="196848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 rot="20499600">
            <a:off x="833040" y="4083120"/>
            <a:ext cx="456876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ountain Building and Eros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2" descr="nopminga_figure1_small"/>
          <p:cNvPicPr/>
          <p:nvPr/>
        </p:nvPicPr>
        <p:blipFill>
          <a:blip r:embed="rId1"/>
          <a:stretch/>
        </p:blipFill>
        <p:spPr>
          <a:xfrm>
            <a:off x="457200" y="3200400"/>
            <a:ext cx="51814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 &amp;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162920" y="1600200"/>
            <a:ext cx="198108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Two Constant Fo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ere is always competition between these forces to shape the landscape of the Earth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819520" y="2362320"/>
            <a:ext cx="18288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0" y="1938240"/>
            <a:ext cx="2286000" cy="2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0" y="1938240"/>
            <a:ext cx="2286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Ex. The Rocky Mountains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 rot="1893000">
            <a:off x="1365120" y="2761920"/>
            <a:ext cx="2590920" cy="110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 rot="1079400">
            <a:off x="690120" y="3088800"/>
            <a:ext cx="28195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7T14:28:57Z</dcterms:modified>
  <cp:revision>39</cp:revision>
  <dc:subject/>
  <dc:title>Slide 1</dc:title>
</cp:coreProperties>
</file>