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C65-552A-42D7-8433-83B121EE5A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10E-00B2-4795-B093-9322E1B0FAE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F48-76D1-4DC5-A333-B80F5901AAA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1AFB-CA7C-4CF1-9BCE-907FD7B6181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900-789D-498F-8F2A-2657E91235C0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E30-F389-4AC8-AD2B-86004CE1321F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6062-B6B4-4E32-879E-007C312672E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4FB5-9291-43EA-975D-3124874C5B2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678F-90E0-4CFD-B632-00F26CEB1AA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339-2F24-4047-B3FE-F48845EE087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9C8-74A8-4896-8B60-17E56C9D9C65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5E4-FAF0-4BF1-B2D7-E493B560595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76C-2602-405F-9EA6-0642F3491D8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086-2912-43BF-92D1-565B1C8ED05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AA9-9B9A-4931-82AF-AB6915C2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A8E-9E01-4E18-8BD2-75F17F34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D48-EEA4-44BD-B32B-AE02779B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A99-B421-45E4-8635-653407FB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C768-F324-4BC0-BE32-8FFF8282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0B8-F893-4602-9500-FBBDD29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FF05-17EC-4B47-9C7D-533AAF6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DFC-7285-4F89-8962-97EB965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77A-5BCA-4318-8CAB-54B8633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6CF2-B590-4958-8EE8-B828E67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D00-716C-4097-9826-2781CC9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FFD-5D6D-4A05-B638-AF9BAB98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42C0-7AE7-420C-8380-175E65A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B79-4124-4C31-B282-A7CEC15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BA16-45B5-4552-8E26-B15BD5C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89E-7BCC-40D4-B013-27E6AF8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1FD0-2845-4E04-B6CD-25BFBA08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D24-EB5D-493E-9911-F4308B6E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62C-83DB-4BB9-B5AD-A18E2BA5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5E1-64C5-497E-B147-2279BFD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2AA-EE0F-4164-AD5F-1DC949DA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55D-64EC-4045-82A1-2990558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19C-DED8-4AD1-BC8C-B8FC5E5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958-7CFA-489E-82CD-9CC8490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CE67-AD0D-470C-8509-87427588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65A-78AA-454F-A1E3-4B6DEEF008A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6" descr="727E052D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2" descr="nopminga_figure1_small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7T14:28:57Z</dcterms:modified>
  <cp:revision>39</cp:revision>
  <dc:subject/>
  <dc:title>Slide 1</dc:title>
</cp:coreProperties>
</file>