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EF686-0538-46B9-B187-645442A5167E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530A7-D830-463D-B0E2-C515087FA56E}" type="slidenum">
              <a:rPr b="0" lang="en-CA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16300-449D-4781-8658-7FC6A5EA8B01}" type="slidenum">
              <a:rPr b="0" lang="en-CA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AD787-4472-4E1F-89B0-EC580BD0A79D}" type="slidenum">
              <a:rPr b="0" lang="en-CA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28730-D6EC-4E87-8A86-6EC4607E8E83}" type="slidenum">
              <a:rPr b="0" lang="en-CA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89651-05C3-4A4C-9DCB-B5105338A5D3}" type="slidenum">
              <a:rPr b="0" lang="en-CA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43C58-119E-4F74-A98A-A6A9488536B6}" type="slidenum">
              <a:rPr b="0" lang="en-CA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B4B55-56A3-44A7-A459-141752DF40DA}" type="slidenum">
              <a:rPr b="0" lang="en-CA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28148-A950-4D4A-A77B-E6A65195A6B4}" type="slidenum">
              <a:rPr b="0" lang="en-CA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04C3D-1F84-4301-ADD7-9D401E6227FF}" type="slidenum">
              <a:rPr b="0" lang="en-CA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9E5FB-95F5-46C0-939D-4E6C64D249A0}" type="slidenum">
              <a:rPr b="0" lang="en-CA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35F24-CA13-4735-8524-86A61D3B750D}" type="slidenum">
              <a:rPr b="0" lang="en-CA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743E1-C80E-42C7-9305-A7EFFF04AEF1}" type="slidenum">
              <a:rPr b="0" lang="en-CA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175E1-D1CC-4F2F-84DD-5E5E49E786C2}" type="slidenum">
              <a:rPr b="0" lang="en-CA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7FD00-BE40-4672-BCAA-5F82721D9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A7F03-7D57-4945-8A79-99329D630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E02C6-5F9D-4FB6-8CE6-11B3C5903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76F8B-32DC-4074-97D8-9AD5404A2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93C2A-9964-49A6-A9DB-4B9384C7F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359D0-A565-4F88-A0F9-84B75F132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00183-C531-4F68-91CC-8B9C6289E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EC592-40E4-4134-AA69-2B01C27F8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E5D20-1A31-4C4C-843C-E27DD7014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EB488-C9EB-4868-B87B-3F19E273F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7E93F-0F36-4789-B3AF-CCA6F47B8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A0140-0D9D-4D56-886E-8D5040B3D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F1902-F464-41E5-9612-7FB7916C2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42ED9-C5EC-47B8-BA56-A07C1E3B1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2A8B3-918D-44FB-86DE-7DE7A6377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8E745-C711-447D-BC43-D5CB52535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EC4AF-87DA-4FF5-8C12-5319DC7F5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E8747-F280-40D5-9769-CCBE52D34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64C09-6CF4-43F2-BE58-90F453D75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A46C6-E039-446C-B248-472E10250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1BD6E-1E1C-4730-8891-804654CC4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8D638-21C1-4CA1-BC01-F8697217C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3B481-5F1A-4A5D-84A0-360AF830C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51F40-3B8F-4708-855B-9F7C92DBB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DC770-9ECD-4CA0-A8B0-B6F211C5E7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1A84D-E267-4A6B-96ED-A6A0D0EDDC4E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5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cc"/>
                </a:solidFill>
                <a:latin typeface="Palatino Linotype"/>
              </a:rPr>
              <a:t>Tearing Down</a:t>
            </a:r>
            <a:endParaRPr b="0" lang="en-US" sz="51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50" name="Picture 6" descr="727E052D"/>
          <p:cNvPicPr/>
          <p:nvPr/>
        </p:nvPicPr>
        <p:blipFill>
          <a:blip r:embed="rId1"/>
          <a:stretch/>
        </p:blipFill>
        <p:spPr>
          <a:xfrm>
            <a:off x="685800" y="1968480"/>
            <a:ext cx="7772400" cy="47545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cc"/>
                </a:solidFill>
                <a:latin typeface="Palatino Linotype"/>
              </a:rPr>
              <a:t>Tearing Down</a:t>
            </a:r>
            <a:endParaRPr b="0" lang="en-US" sz="5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2" name="Text Box 3"/>
          <p:cNvSpPr/>
          <p:nvPr/>
        </p:nvSpPr>
        <p:spPr>
          <a:xfrm>
            <a:off x="6858000" y="1600200"/>
            <a:ext cx="2286000" cy="31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cc"/>
                </a:solidFill>
                <a:latin typeface="Verdana"/>
              </a:rPr>
              <a:t>Erosion &amp; Weathering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Verdana"/>
              </a:rPr>
              <a:t>Temperature, running water, ice, wind, plants and chemical reactions are the major forces that erode the land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53" name="Picture 4" descr="A3F4F287"/>
          <p:cNvPicPr/>
          <p:nvPr/>
        </p:nvPicPr>
        <p:blipFill>
          <a:blip r:embed="rId1"/>
          <a:stretch/>
        </p:blipFill>
        <p:spPr>
          <a:xfrm>
            <a:off x="304920" y="2009880"/>
            <a:ext cx="6476760" cy="44607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cc"/>
                </a:solidFill>
                <a:latin typeface="Palatino Linotype"/>
              </a:rPr>
              <a:t>Tearing Down</a:t>
            </a:r>
            <a:endParaRPr b="0" lang="en-US" sz="5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5" name="Text Box 3"/>
          <p:cNvSpPr/>
          <p:nvPr/>
        </p:nvSpPr>
        <p:spPr>
          <a:xfrm>
            <a:off x="6858000" y="1600200"/>
            <a:ext cx="2286000" cy="31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cc"/>
                </a:solidFill>
                <a:latin typeface="Verdana"/>
              </a:rPr>
              <a:t>Erosion &amp; Weathering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Verdana"/>
              </a:rPr>
              <a:t>Temperature, running water, ice, wind, plants and chemical reactions are the major forces that erode the land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56" name="Picture 4" descr="A3F4F287"/>
          <p:cNvPicPr/>
          <p:nvPr/>
        </p:nvPicPr>
        <p:blipFill>
          <a:blip r:embed="rId1"/>
          <a:stretch/>
        </p:blipFill>
        <p:spPr>
          <a:xfrm>
            <a:off x="304920" y="2009880"/>
            <a:ext cx="6476760" cy="4460760"/>
          </a:xfrm>
          <a:prstGeom prst="rect">
            <a:avLst/>
          </a:prstGeom>
          <a:ln w="0">
            <a:noFill/>
          </a:ln>
        </p:spPr>
      </p:pic>
      <p:sp>
        <p:nvSpPr>
          <p:cNvPr id="157" name="Oval 5"/>
          <p:cNvSpPr/>
          <p:nvPr/>
        </p:nvSpPr>
        <p:spPr>
          <a:xfrm rot="20499600">
            <a:off x="833040" y="4083120"/>
            <a:ext cx="4568760" cy="2286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5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100"/>
            </a:br>
            <a:r>
              <a:rPr b="0" lang="en-US" sz="5100" spc="-1" strike="noStrike">
                <a:solidFill>
                  <a:srgbClr val="ffffcc"/>
                </a:solidFill>
                <a:latin typeface="Palatino Linotype"/>
              </a:rPr>
              <a:t>Mountain Building and Erosion</a:t>
            </a:r>
            <a:endParaRPr b="0" lang="en-US" sz="51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4" name="Picture 12" descr="nopminga_figure1_small"/>
          <p:cNvPicPr/>
          <p:nvPr/>
        </p:nvPicPr>
        <p:blipFill>
          <a:blip r:embed="rId1"/>
          <a:stretch/>
        </p:blipFill>
        <p:spPr>
          <a:xfrm>
            <a:off x="457200" y="3200400"/>
            <a:ext cx="5181480" cy="29131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48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cc"/>
                </a:solidFill>
                <a:latin typeface="Palatino Linotype"/>
              </a:rPr>
              <a:t>Building Up &amp; </a:t>
            </a:r>
            <a:br>
              <a:rPr sz="5100"/>
            </a:br>
            <a:r>
              <a:rPr b="0" lang="en-US" sz="5100" spc="-1" strike="noStrike">
                <a:solidFill>
                  <a:srgbClr val="ffffcc"/>
                </a:solidFill>
                <a:latin typeface="Palatino Linotype"/>
              </a:rPr>
              <a:t>Tearing Down</a:t>
            </a:r>
            <a:endParaRPr b="0" lang="en-US" sz="5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7162920" y="1600200"/>
            <a:ext cx="1981080" cy="404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cc"/>
                </a:solidFill>
                <a:latin typeface="Verdana"/>
              </a:rPr>
              <a:t>Two Constant Forces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Verdana"/>
              </a:rPr>
              <a:t>There is always competition between these forces to shape the landscape of the Earth.</a:t>
            </a: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7" name="Picture 5" descr="A3F4F287"/>
          <p:cNvPicPr/>
          <p:nvPr/>
        </p:nvPicPr>
        <p:blipFill>
          <a:blip r:embed="rId1"/>
          <a:stretch/>
        </p:blipFill>
        <p:spPr>
          <a:xfrm>
            <a:off x="304920" y="2009880"/>
            <a:ext cx="6476760" cy="44607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cc"/>
                </a:solidFill>
                <a:latin typeface="Palatino Linotype"/>
              </a:rPr>
              <a:t>Building Up</a:t>
            </a:r>
            <a:endParaRPr b="0" lang="en-US" sz="5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9" name="Text Box 3"/>
          <p:cNvSpPr/>
          <p:nvPr/>
        </p:nvSpPr>
        <p:spPr>
          <a:xfrm>
            <a:off x="6858000" y="1938240"/>
            <a:ext cx="2133720" cy="264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cc"/>
                </a:solidFill>
                <a:latin typeface="Verdana"/>
              </a:rPr>
              <a:t>Folding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Verdana"/>
              </a:rPr>
              <a:t>Compression and squeezing bends and twists rocks.  </a:t>
            </a:r>
            <a:r>
              <a:rPr b="1" lang="en-US" sz="2200" spc="-1" strike="noStrike">
                <a:solidFill>
                  <a:srgbClr val="ffffcc"/>
                </a:solidFill>
                <a:latin typeface="Verdana"/>
              </a:rPr>
              <a:t>Rocks do not break apart.</a:t>
            </a: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0" name="Picture 4" descr="A3F4F287"/>
          <p:cNvPicPr/>
          <p:nvPr/>
        </p:nvPicPr>
        <p:blipFill>
          <a:blip r:embed="rId1"/>
          <a:stretch/>
        </p:blipFill>
        <p:spPr>
          <a:xfrm>
            <a:off x="304920" y="2009880"/>
            <a:ext cx="6476760" cy="44607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cc"/>
                </a:solidFill>
                <a:latin typeface="Palatino Linotype"/>
              </a:rPr>
              <a:t>Building Up</a:t>
            </a:r>
            <a:endParaRPr b="0" lang="en-US" sz="5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6858000" y="1938240"/>
            <a:ext cx="2133720" cy="264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cc"/>
                </a:solidFill>
                <a:latin typeface="Verdana"/>
              </a:rPr>
              <a:t>Folding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Verdana"/>
              </a:rPr>
              <a:t>Compression and squeezing bends and twists rocks.  </a:t>
            </a:r>
            <a:r>
              <a:rPr b="1" lang="en-US" sz="2200" spc="-1" strike="noStrike">
                <a:solidFill>
                  <a:srgbClr val="ffffcc"/>
                </a:solidFill>
                <a:latin typeface="Verdana"/>
              </a:rPr>
              <a:t>Rocks do not break apart.</a:t>
            </a: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3" name="Picture 5" descr="A3F4F287"/>
          <p:cNvPicPr/>
          <p:nvPr/>
        </p:nvPicPr>
        <p:blipFill>
          <a:blip r:embed="rId1"/>
          <a:stretch/>
        </p:blipFill>
        <p:spPr>
          <a:xfrm>
            <a:off x="304920" y="2009880"/>
            <a:ext cx="6476760" cy="4460760"/>
          </a:xfrm>
          <a:prstGeom prst="rect">
            <a:avLst/>
          </a:prstGeom>
          <a:ln w="0">
            <a:noFill/>
          </a:ln>
        </p:spPr>
      </p:pic>
      <p:sp>
        <p:nvSpPr>
          <p:cNvPr id="134" name="Oval 6"/>
          <p:cNvSpPr/>
          <p:nvPr/>
        </p:nvSpPr>
        <p:spPr>
          <a:xfrm>
            <a:off x="2819520" y="2362320"/>
            <a:ext cx="1828800" cy="14475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cc"/>
                </a:solidFill>
                <a:latin typeface="Palatino Linotype"/>
              </a:rPr>
              <a:t>Building Up</a:t>
            </a:r>
            <a:endParaRPr b="0" lang="en-US" sz="5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6" name="Text Box 3"/>
          <p:cNvSpPr/>
          <p:nvPr/>
        </p:nvSpPr>
        <p:spPr>
          <a:xfrm>
            <a:off x="6858000" y="1938240"/>
            <a:ext cx="2286000" cy="29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cc"/>
                </a:solidFill>
                <a:latin typeface="Verdana"/>
              </a:rPr>
              <a:t>Faulting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Verdana"/>
              </a:rPr>
              <a:t>Compression and pressures so great that massive blocks of rock fracture and break apart.</a:t>
            </a: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7" name="Picture 4" descr="A3F4F287"/>
          <p:cNvPicPr/>
          <p:nvPr/>
        </p:nvPicPr>
        <p:blipFill>
          <a:blip r:embed="rId1"/>
          <a:stretch/>
        </p:blipFill>
        <p:spPr>
          <a:xfrm>
            <a:off x="304920" y="2009880"/>
            <a:ext cx="6476760" cy="44607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cc"/>
                </a:solidFill>
                <a:latin typeface="Palatino Linotype"/>
              </a:rPr>
              <a:t>Building Up</a:t>
            </a:r>
            <a:endParaRPr b="0" lang="en-US" sz="5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6858000" y="1938240"/>
            <a:ext cx="2286000" cy="38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cc"/>
                </a:solidFill>
                <a:latin typeface="Verdana"/>
              </a:rPr>
              <a:t>Faulting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Verdana"/>
              </a:rPr>
              <a:t>Compression and pressures so great that massive blocks of rock fracture and break apart.</a:t>
            </a: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Verdana"/>
              </a:rPr>
              <a:t>Ex. The Rocky Mountains</a:t>
            </a: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0" name="Picture 4" descr="A3F4F287"/>
          <p:cNvPicPr/>
          <p:nvPr/>
        </p:nvPicPr>
        <p:blipFill>
          <a:blip r:embed="rId1"/>
          <a:stretch/>
        </p:blipFill>
        <p:spPr>
          <a:xfrm>
            <a:off x="304920" y="2009880"/>
            <a:ext cx="6476760" cy="4460760"/>
          </a:xfrm>
          <a:prstGeom prst="rect">
            <a:avLst/>
          </a:prstGeom>
          <a:ln w="0">
            <a:noFill/>
          </a:ln>
        </p:spPr>
      </p:pic>
      <p:sp>
        <p:nvSpPr>
          <p:cNvPr id="141" name="Oval 5"/>
          <p:cNvSpPr/>
          <p:nvPr/>
        </p:nvSpPr>
        <p:spPr>
          <a:xfrm rot="1893000">
            <a:off x="1365120" y="2761920"/>
            <a:ext cx="2590920" cy="11062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cc"/>
                </a:solidFill>
                <a:latin typeface="Palatino Linotype"/>
              </a:rPr>
              <a:t>Building Up</a:t>
            </a:r>
            <a:endParaRPr b="0" lang="en-US" sz="5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3" name="Text Box 3"/>
          <p:cNvSpPr/>
          <p:nvPr/>
        </p:nvSpPr>
        <p:spPr>
          <a:xfrm>
            <a:off x="6858000" y="1938240"/>
            <a:ext cx="2286000" cy="427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cc"/>
                </a:solidFill>
                <a:latin typeface="Verdana"/>
              </a:rPr>
              <a:t>Volcanism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Verdana"/>
              </a:rPr>
              <a:t>The creation of mountains through the growth of volcanoes as they force magma to the surface.  Mountains formed through volcanism can be “live” or dormant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4" name="Picture 4" descr="A3F4F287"/>
          <p:cNvPicPr/>
          <p:nvPr/>
        </p:nvPicPr>
        <p:blipFill>
          <a:blip r:embed="rId1"/>
          <a:stretch/>
        </p:blipFill>
        <p:spPr>
          <a:xfrm>
            <a:off x="304920" y="2009880"/>
            <a:ext cx="6476760" cy="44607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cc"/>
                </a:solidFill>
                <a:latin typeface="Palatino Linotype"/>
              </a:rPr>
              <a:t>Building Up</a:t>
            </a:r>
            <a:endParaRPr b="0" lang="en-US" sz="5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6" name="Text Box 3"/>
          <p:cNvSpPr/>
          <p:nvPr/>
        </p:nvSpPr>
        <p:spPr>
          <a:xfrm>
            <a:off x="6858000" y="1938240"/>
            <a:ext cx="2286000" cy="427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cc"/>
                </a:solidFill>
                <a:latin typeface="Verdana"/>
              </a:rPr>
              <a:t>Volcanism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Verdana"/>
              </a:rPr>
              <a:t>The creation of mountains through the growth of volcanoes as they force magma to the surface.  Mountains formed through volcanism can be “live” or dormant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7" name="Picture 4" descr="A3F4F287"/>
          <p:cNvPicPr/>
          <p:nvPr/>
        </p:nvPicPr>
        <p:blipFill>
          <a:blip r:embed="rId1"/>
          <a:stretch/>
        </p:blipFill>
        <p:spPr>
          <a:xfrm>
            <a:off x="304920" y="2009880"/>
            <a:ext cx="6476760" cy="4460760"/>
          </a:xfrm>
          <a:prstGeom prst="rect">
            <a:avLst/>
          </a:prstGeom>
          <a:ln w="0">
            <a:noFill/>
          </a:ln>
        </p:spPr>
      </p:pic>
      <p:sp>
        <p:nvSpPr>
          <p:cNvPr id="148" name="Oval 5"/>
          <p:cNvSpPr/>
          <p:nvPr/>
        </p:nvSpPr>
        <p:spPr>
          <a:xfrm rot="1079400">
            <a:off x="690120" y="3088800"/>
            <a:ext cx="2819520" cy="12193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1:31:29Z</dcterms:created>
  <dc:creator>Customer</dc:creator>
  <dc:description/>
  <dc:language>en-US</dc:language>
  <cp:lastModifiedBy>McKillop, Tim</cp:lastModifiedBy>
  <dcterms:modified xsi:type="dcterms:W3CDTF">2014-03-17T14:28:57Z</dcterms:modified>
  <cp:revision>39</cp:revision>
  <dc:subject/>
  <dc:title>Slide 1</dc:title>
</cp:coreProperties>
</file>