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BAA4-906B-456E-A9F8-F402DC600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B32F-D977-4F31-B1C8-B148D4CB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1F9A-E83E-4269-B1E1-ACF4F7217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37E6-3EC9-423E-AEE7-73B395253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E871-021F-4C32-A6ED-6977A20B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FF59-0136-45D5-AB51-27AC8786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988B-68FB-45B0-B8D7-00B16E12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D636-94C0-4DB6-9FA2-DD79EC7C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24BA-8B64-4890-ADD4-9B6B52AC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B726-B925-4C59-BD89-2CAD97E8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F3C7-FA9B-478D-A186-7916DBFD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6719-4672-43AA-A55D-E33235A8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722B-9C40-415C-AD17-20DBB02CE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file of Southern Canada’s Landforms at Approximately 5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North Latit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canada"/>
          <p:cNvPicPr/>
          <p:nvPr/>
        </p:nvPicPr>
        <p:blipFill>
          <a:blip r:embed="rId1"/>
          <a:stretch/>
        </p:blipFill>
        <p:spPr>
          <a:xfrm>
            <a:off x="0" y="996840"/>
            <a:ext cx="9144000" cy="5861160"/>
          </a:xfrm>
          <a:prstGeom prst="rect">
            <a:avLst/>
          </a:prstGeom>
          <a:ln w="0">
            <a:noFill/>
          </a:ln>
        </p:spPr>
      </p:pic>
      <p:sp>
        <p:nvSpPr>
          <p:cNvPr id="46" name="Freeform 7"/>
          <p:cNvSpPr/>
          <p:nvPr/>
        </p:nvSpPr>
        <p:spPr>
          <a:xfrm>
            <a:off x="76320" y="3657600"/>
            <a:ext cx="9067680" cy="2286000"/>
          </a:xfrm>
          <a:custGeom>
            <a:avLst/>
            <a:gdLst/>
            <a:ahLst/>
            <a:rect l="l" t="t" r="r" b="b"/>
            <a:pathLst>
              <a:path w="5760" h="1368">
                <a:moveTo>
                  <a:pt x="0" y="0"/>
                </a:moveTo>
                <a:cubicBezTo>
                  <a:pt x="612" y="468"/>
                  <a:pt x="1224" y="936"/>
                  <a:pt x="1872" y="1152"/>
                </a:cubicBezTo>
                <a:cubicBezTo>
                  <a:pt x="2520" y="1368"/>
                  <a:pt x="3312" y="1368"/>
                  <a:pt x="3888" y="1296"/>
                </a:cubicBezTo>
                <a:cubicBezTo>
                  <a:pt x="4464" y="1224"/>
                  <a:pt x="5016" y="856"/>
                  <a:pt x="5328" y="720"/>
                </a:cubicBezTo>
                <a:cubicBezTo>
                  <a:pt x="5640" y="584"/>
                  <a:pt x="5700" y="532"/>
                  <a:pt x="5760" y="48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76320" y="166680"/>
            <a:ext cx="899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file of Southern Canada’s Landforms (Approx. 5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cross section profile canada"/>
          <p:cNvPicPr/>
          <p:nvPr/>
        </p:nvPicPr>
        <p:blipFill>
          <a:blip r:embed="rId1"/>
          <a:stretch/>
        </p:blipFill>
        <p:spPr>
          <a:xfrm rot="519000">
            <a:off x="304560" y="2420640"/>
            <a:ext cx="8381880" cy="26082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76320" y="152280"/>
            <a:ext cx="899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file of Southern Canada’s Landforms (Approx. 5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8:18:42Z</dcterms:created>
  <dc:creator>Customer</dc:creator>
  <dc:description/>
  <dc:language>en-US</dc:language>
  <cp:lastModifiedBy>McKillop, Tim</cp:lastModifiedBy>
  <dcterms:modified xsi:type="dcterms:W3CDTF">2014-04-22T14:14:26Z</dcterms:modified>
  <cp:revision>2</cp:revision>
  <dc:subject/>
  <dc:title>Slide 1</dc:title>
</cp:coreProperties>
</file>