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868-5F4C-4EC7-8C94-A435EC89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E92-6B23-4FDE-9142-6CC0649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463-FFFB-4CD5-885A-BE7882FE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522-B7FC-480B-AA18-4A7647C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D49-5111-452D-81AB-E5FFA055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3AB-82E9-4737-BD6A-2849E1AA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EB6-2A8E-4420-8955-83F8B7F2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B51-6C80-4D5F-A82D-F005D2A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95E-FD71-433C-B9BB-DD9E4B70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A17-53BB-49BB-851D-D8E45420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BBE-3B65-4B74-87C1-D403F32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C35-8929-4B92-AE3A-878A44D0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E88F-7CCC-4768-9449-8A5DDBD6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anada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oss section profile canada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McKillop, Tim</cp:lastModifiedBy>
  <dcterms:modified xsi:type="dcterms:W3CDTF">2014-04-22T14:14:26Z</dcterms:modified>
  <cp:revision>2</cp:revision>
  <dc:subject/>
  <dc:title>Slide 1</dc:title>
</cp:coreProperties>
</file>