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3CA1-FACD-47C2-A47E-9983FC1EA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E384-7826-4D33-B63D-06DE8B67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C0DA-FE01-42E7-A96E-FD42C4016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76A0-00B4-4DCD-A78F-B519C7C23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5925-BE1D-4E8F-901B-94CA46E6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4603-A2D2-4074-B20E-372B75ED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72CA-C92F-4D07-BE43-5F4E7C80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1410-CC0F-4778-9022-780F51EA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B7D2-96FD-4D8A-B770-7637B164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BC2B-8722-4C9E-B69B-BB7CF8E9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99C8-F229-4742-BDD9-573306C2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42DC-F220-4447-B2F4-77CDCF45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BAC6-D2CE-485F-BD12-C2D5E095D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file of Southern Canada’s Landforms at Approximately 50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North Latitu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canada"/>
          <p:cNvPicPr/>
          <p:nvPr/>
        </p:nvPicPr>
        <p:blipFill>
          <a:blip r:embed="rId1"/>
          <a:stretch/>
        </p:blipFill>
        <p:spPr>
          <a:xfrm>
            <a:off x="0" y="996840"/>
            <a:ext cx="9144000" cy="5861160"/>
          </a:xfrm>
          <a:prstGeom prst="rect">
            <a:avLst/>
          </a:prstGeom>
          <a:ln w="0">
            <a:noFill/>
          </a:ln>
        </p:spPr>
      </p:pic>
      <p:sp>
        <p:nvSpPr>
          <p:cNvPr id="46" name="Freeform 7"/>
          <p:cNvSpPr/>
          <p:nvPr/>
        </p:nvSpPr>
        <p:spPr>
          <a:xfrm>
            <a:off x="76320" y="3657600"/>
            <a:ext cx="9067680" cy="2286000"/>
          </a:xfrm>
          <a:custGeom>
            <a:avLst/>
            <a:gdLst/>
            <a:ahLst/>
            <a:rect l="l" t="t" r="r" b="b"/>
            <a:pathLst>
              <a:path w="5760" h="1368">
                <a:moveTo>
                  <a:pt x="0" y="0"/>
                </a:moveTo>
                <a:cubicBezTo>
                  <a:pt x="612" y="468"/>
                  <a:pt x="1224" y="936"/>
                  <a:pt x="1872" y="1152"/>
                </a:cubicBezTo>
                <a:cubicBezTo>
                  <a:pt x="2520" y="1368"/>
                  <a:pt x="3312" y="1368"/>
                  <a:pt x="3888" y="1296"/>
                </a:cubicBezTo>
                <a:cubicBezTo>
                  <a:pt x="4464" y="1224"/>
                  <a:pt x="5016" y="856"/>
                  <a:pt x="5328" y="720"/>
                </a:cubicBezTo>
                <a:cubicBezTo>
                  <a:pt x="5640" y="584"/>
                  <a:pt x="5700" y="532"/>
                  <a:pt x="5760" y="480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76320" y="166680"/>
            <a:ext cx="899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file of Southern Canada’s Landforms (Approx. 5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cross section profile canada"/>
          <p:cNvPicPr/>
          <p:nvPr/>
        </p:nvPicPr>
        <p:blipFill>
          <a:blip r:embed="rId1"/>
          <a:stretch/>
        </p:blipFill>
        <p:spPr>
          <a:xfrm rot="519000">
            <a:off x="304560" y="2420640"/>
            <a:ext cx="8381880" cy="26082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76320" y="152280"/>
            <a:ext cx="899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file of Southern Canada’s Landforms (Approx. 5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8:18:42Z</dcterms:created>
  <dc:creator>Customer</dc:creator>
  <dc:description/>
  <dc:language>en-US</dc:language>
  <cp:lastModifiedBy>McKillop, Tim</cp:lastModifiedBy>
  <dcterms:modified xsi:type="dcterms:W3CDTF">2014-04-22T14:14:26Z</dcterms:modified>
  <cp:revision>2</cp:revision>
  <dc:subject/>
  <dc:title>Slide 1</dc:title>
</cp:coreProperties>
</file>