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88F-7B36-49C2-8FA4-AF3BCB46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B3A-38FF-4072-8857-5CBA7D14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6ED-4F96-45EF-B203-11FDB3BC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39D-6B69-49C2-B9F4-F7F4BF7B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08A-B279-4695-A2CC-87CC82D8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F91-1A94-49AB-BB74-D4A12738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1E1-1BBB-4F3B-9FB0-95783696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03C-C60F-4CB0-89EC-476618C8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964-5B07-47F9-91FC-43C86A3E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EA5-F661-4446-A23A-72C0D5D7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146-9DB6-477C-9512-C67610F5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B0A-7DBF-4413-8673-4E5332BA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4B1E-6CE4-450E-88CA-45ADE56EA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le of Southern Canada’s Landforms at Approximately 5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orth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anada"/>
          <p:cNvPicPr/>
          <p:nvPr/>
        </p:nvPicPr>
        <p:blipFill>
          <a:blip r:embed="rId1"/>
          <a:stretch/>
        </p:blipFill>
        <p:spPr>
          <a:xfrm>
            <a:off x="0" y="99684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76320" y="3657600"/>
            <a:ext cx="9067680" cy="2286000"/>
          </a:xfrm>
          <a:custGeom>
            <a:avLst/>
            <a:gdLst/>
            <a:ahLst/>
            <a:rect l="l" t="t" r="r" b="b"/>
            <a:pathLst>
              <a:path w="5760" h="1368">
                <a:moveTo>
                  <a:pt x="0" y="0"/>
                </a:moveTo>
                <a:cubicBezTo>
                  <a:pt x="612" y="468"/>
                  <a:pt x="1224" y="936"/>
                  <a:pt x="1872" y="1152"/>
                </a:cubicBezTo>
                <a:cubicBezTo>
                  <a:pt x="2520" y="1368"/>
                  <a:pt x="3312" y="1368"/>
                  <a:pt x="3888" y="1296"/>
                </a:cubicBezTo>
                <a:cubicBezTo>
                  <a:pt x="4464" y="1224"/>
                  <a:pt x="5016" y="856"/>
                  <a:pt x="5328" y="720"/>
                </a:cubicBezTo>
                <a:cubicBezTo>
                  <a:pt x="5640" y="584"/>
                  <a:pt x="5700" y="532"/>
                  <a:pt x="5760" y="4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6320" y="1666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ross section profile canada"/>
          <p:cNvPicPr/>
          <p:nvPr/>
        </p:nvPicPr>
        <p:blipFill>
          <a:blip r:embed="rId1"/>
          <a:stretch/>
        </p:blipFill>
        <p:spPr>
          <a:xfrm rot="519000">
            <a:off x="304560" y="2420640"/>
            <a:ext cx="8381880" cy="2608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76320" y="1522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8:18:42Z</dcterms:created>
  <dc:creator>Customer</dc:creator>
  <dc:description/>
  <dc:language>en-US</dc:language>
  <cp:lastModifiedBy>McKillop, Tim</cp:lastModifiedBy>
  <dcterms:modified xsi:type="dcterms:W3CDTF">2014-04-22T14:14:26Z</dcterms:modified>
  <cp:revision>2</cp:revision>
  <dc:subject/>
  <dc:title>Slide 1</dc:title>
</cp:coreProperties>
</file>