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BE17-0BCA-4D04-9E5F-D72C9132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AD0-39B6-4540-AAF3-55DBABB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BA7-62FF-4AEA-9E2E-EFB1BDB0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B81-6CA3-4F1C-AB15-1A068B82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F66-DC7F-4B50-88C3-9C58484E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75C-EB10-448C-90DA-B3307D2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EF7-FAC5-49E6-8A40-74F0DDC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554-DAE1-46EC-8CE7-459E974C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741-E50C-47DD-8997-2BAA6768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172-F8D1-49E7-AC82-03DD036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88A-2931-4014-8D63-DDA5E1AC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66E-C407-417C-9FBE-669B9840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C0E1-DCE2-4679-B70D-FB872F67191E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C1P/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arts of the world change their time according to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ummer, daylight saving time is used to extend daylight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the sun in standard time would set at 8:00pm but when time is in daylight savings it would set at 9:00pm (therefore 1 more hour of day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saved and people get to enjoy more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ake up when light, go to bed when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nada time is changed to daylight saving on the second Sunday in March and ends the first Sunday of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he clocks ahead or 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ahead, fall b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, daylight savings time began on March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the clocks ahead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end on Novemb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t the clocks back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your alarm goes off at 7am, it will feel like 8am - like getting to sleep in an extra h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867280" y="544500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6093000"/>
            <a:ext cx="28764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240" y="5445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Daylight Saving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58880" y="5445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it but gave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82520" y="6021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us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up with Saskatchew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skatchewan is naturally located withi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ountain Standard Ti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MST) – the same timezone as Alb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 The Time Act of 1966, Saskatchewan adopted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entral Standard Time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 shares the same timezone as Manit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since they don’t observe Daylight Savings time, they share the same time as Alberta during the summer months and the same time as Manitoba during the winter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has 24 times zones because it takes the Earth 24 hours to revolve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one hour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1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24 = 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lace within a time zone has the same time, referred to as its standar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time zones were not required prior to the 1800s because it was impossible for people to travel large distances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velopment of rapid railway transportation changed travel dramatically, allowing people to travel large distances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used confusion, since every town set their own clocks by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:00 in Ottawa would be about 7:45 in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nadian engineer same Sir Sandford Flemming proposed a system of standard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spans 6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the Eastern Standard Tim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1:00pm in Ottawa it is the same in all of this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nada this includes all of Quebec and most of Ontario (as far west as Thunder B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US this includes all of the eastern states, as far west as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is the centre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one extends 7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ither side of the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n this zone is called universal time (UT) and the standard time in other zones is compar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rime meridian are earlier than the universal time (the time at the prime merid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UT is 12:00am, next time zone west is 11:00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ime meridian are later than the universal time (the time at the prime meri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UT is 12:00am, next time zone east is 1:00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modify time zones (change them from straight lines) for political reasons (for example, it’s more conven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ll of China is in same time zone, so all of the country is on the same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aces are located where time zone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St. John's, so it is given half a time zone (1/2 an hou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1:16:58Z</dcterms:created>
  <dc:creator>Michael</dc:creator>
  <dc:description/>
  <dc:language>en-US</dc:language>
  <cp:lastModifiedBy>McKillop, Tim</cp:lastModifiedBy>
  <dcterms:modified xsi:type="dcterms:W3CDTF">2014-02-14T14:08:45Z</dcterms:modified>
  <cp:revision>6</cp:revision>
  <dc:subject/>
  <dc:title>Timezones</dc:title>
</cp:coreProperties>
</file>