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712-666A-4652-8D23-0BCF45C1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AB0-B39B-4A00-AE7F-338159BA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DB7F-4D69-4F4D-BC46-06871C6C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D59-7BB0-4197-93D1-4B1465BF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C98-DFDE-42A5-A537-5745B0DB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B58-D20C-45D8-A4C6-BD218450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592-709B-4E5D-AE95-0B05975A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7AE-68D4-4165-BAC2-22BAE900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A26-DEA4-42C8-90F2-30D21E1E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EBB-8276-4EDD-94FF-9343D76E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91B-8C7E-4430-8899-199BC127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E28-4018-42FE-9FB9-C44181FF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B68E-C388-419F-BDA6-64CEF9E0972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GC1P/1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light Savings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arts of the world change their time according to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summer, daylight saving time is used to extend daylight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the sun in standard time would set at 8:00pm but when time is in daylight savings it would set at 9:00pm (therefore 1 more hour of day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light Savings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saved and people get to enjoy more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wake up when light, go to bed when d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anada time is changed to daylight saving on the second Sunday in March and ends the first Sunday of Nov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the clocks ahead or ba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ahead, fall b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year, daylight savings time began on March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et the clocks ahead one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end on Novemb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et the clocks back one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en your alarm goes off at 7am, it will feel like 8am - like getting to sleep in an extra hou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390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324000" y="5445000"/>
            <a:ext cx="287280" cy="287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5867280" y="544500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492360" y="6093000"/>
            <a:ext cx="287640" cy="287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15240" y="544500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Daylight Saving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158880" y="544500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ed it but gave i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782520" y="60213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us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up with Saskatchew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askatchewan is naturally located within 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ountain Standard Tim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MST) – the same timezone as Alb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 The Time Act of 1966, Saskatchewan adopted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Central Standard Time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 shares the same timezone as Manito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t since they don’t observe Daylight Savings time, they share the same time as Alberta during the summer months and the same time as Manitoba during the winter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th has 24 times zones because it takes the Earth 24 hours to revolve around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ime zone is one hour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ime zone is 15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ng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24 = 1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lace within a time zone has the same time, referred to as its standar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Time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time zones were not required prior to the 1800s because it was impossible for people to travel large distances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velopment of rapid railway transportation changed travel dramatically, allowing people to travel large distances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Time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aused confusion, since every town set their own clocks by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8:00 in Ottawa would be about 7:45 in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nadian engineer same Sir Sandford Flemming proposed a system of standard tim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ada’s Time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spans 6 tim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in the Eastern Standard Time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s 1:00pm in Ottawa it is the same in all of this time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nada this includes all of Quebec and most of Ontario (as far west as Thunder B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US this includes all of the eastern states, as far west as Michi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im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e meridian is the centre time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one extends 7.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either side of the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in this zone is called universal time (UT) and the standard time in other zones is compared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zon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prime meridian are earlier than the universal time (the time at the prime meridi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f UT is 12:00am, next time zone west is 11:00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im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zon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rime meridian are later than the universal time (the time at the prime meridi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f UT is 12:00am, next time zone east is 1:00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im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modify time zones (change them from straight lines) for political reasons (for example, it’s more conven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all of China is in same time zone, so all of the country is on the same tim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laces are located where time zone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St. John's, so it is given half a time zone (1/2 an hou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1:16:58Z</dcterms:created>
  <dc:creator>Michael</dc:creator>
  <dc:description/>
  <dc:language>en-US</dc:language>
  <cp:lastModifiedBy>McKillop, Tim</cp:lastModifiedBy>
  <dcterms:modified xsi:type="dcterms:W3CDTF">2014-02-14T14:08:45Z</dcterms:modified>
  <cp:revision>6</cp:revision>
  <dc:subject/>
  <dc:title>Timezones</dc:title>
</cp:coreProperties>
</file>