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6A74-DCCB-4751-A0AA-11F4BCC6A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9F4E-85A7-4DF5-8E69-3BA2E236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63D5-044D-454B-A905-3DEC9ACAE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BC05-0663-4547-87AF-153199858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F7CD-1A5B-48D9-A021-E8BB3C4B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0672-8B89-4A9F-83BD-824C35CB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E266-4FAC-4D42-BDF2-673C6E3F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A1B4-D655-4F9E-A332-88D87C07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DE0D-6A0A-4E01-B3B4-9B718348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C418-11D2-4683-987C-1D542B44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8348-7D84-40B5-8B4F-D38D576F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778D-757D-437C-8458-8AC1A41F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E24D-D2BD-4D96-AE1B-D0F2CC8C4D3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z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GC1P/1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light Savings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arts of the world change their time according to the s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 summer, daylight saving time is used to extend daylight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 the sun in standard time would set at 8:00pm but when time is in daylight savings it would set at 9:00pm (therefore 1 more hour of day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light Savings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saved and people get to enjoy more of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wake up when light, go to bed when d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anada time is changed to daylight saving on the second Sunday in March and ends the first Sunday of Nov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 the clocks ahead or bac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ing ahead, fall back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year, daylight savings time began on March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et the clocks ahead one h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ill end on November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set the clocks back one h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hen your alarm goes off at 7am, it will feel like 8am - like getting to sleep in an extra hou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43909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324000" y="5445000"/>
            <a:ext cx="287280" cy="287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5867280" y="5445000"/>
            <a:ext cx="287280" cy="287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3492360" y="6093000"/>
            <a:ext cx="287640" cy="2872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615240" y="544500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 Daylight Savings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6158880" y="544500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ed it but gave it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3782520" y="602136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ver used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up with Saskatchew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askatchewan is naturally located within the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Mountain Standard Tim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(MST) – the same timezone as Albe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nder The Time Act of 1966, Saskatchewan adopted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 Central Standard Time,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 shares the same timezone as Manito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ut since they don’t observe Daylight Savings time, they share the same time as Alberta during the summer months and the same time as Manitoba during the winter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Z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arth has 24 times zones because it takes the Earth 24 hours to revolve around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time zone is one hour a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time zone is 15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ng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/ 24 = 15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place within a time zone has the same time, referred to as its standard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Timez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ndard time zones were not required prior to the 1800s because it was impossible for people to travel large distances in a short period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development of rapid railway transportation changed travel dramatically, allowing people to travel large distances quick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Timez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aused confusion, since every town set their own clocks by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8:00 in Ottawa would be about 7:45 in Toro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nadian engineer same Sir Sandford Flemming proposed a system of standard time z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ada’s Timez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ada spans 6 time z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in the Eastern Standard Time Z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t is 1:00pm in Ottawa it is the same in all of this time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anada this includes all of Quebec and most of Ontario (as far west as Thunder B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US this includes all of the eastern states, as far west as Michi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Time Z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ime meridian is the centre time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zone extends 7.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either side of the 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ng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in this zone is called universal time (UT) and the standard time in other zones is compared t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zon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e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prime meridian are earlier than the universal time (the time at the prime meridi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if UT is 12:00am, next time zone west is 11:00p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Time Z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zon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prime meridian are later than the universal time (the time at the prime meridi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if UT is 12:00am, next time zone east is 1:00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Time Z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untries modify time zones (change them from straight lines) for political reasons (for example, it’s more conveni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 all of China is in same time zone, so all of the country is on the same tim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laces are located where time zones m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 St. John's, so it is given half a time zone (1/2 an hou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01:16:58Z</dcterms:created>
  <dc:creator>Michael</dc:creator>
  <dc:description/>
  <dc:language>en-US</dc:language>
  <cp:lastModifiedBy>McKillop, Tim</cp:lastModifiedBy>
  <dcterms:modified xsi:type="dcterms:W3CDTF">2014-02-14T14:08:45Z</dcterms:modified>
  <cp:revision>6</cp:revision>
  <dc:subject/>
  <dc:title>Timezones</dc:title>
</cp:coreProperties>
</file>