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AB2F-D067-42A7-B2B3-CEC3E8F62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DD80-583D-4C97-8324-837846B2F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4919-097E-4BFF-BA1C-C3F994C3A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4E01-ABBE-40FE-8EE9-E63A234DB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FE2E-B37A-48ED-AE4F-2AA8DDD0D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65C7-0EB3-400E-BD34-04693E802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98CA-02EA-400A-92BD-3FDB757FF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732E-5D50-4AEC-87D3-C6BEDB356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F45A-E89C-46E6-9118-304B03878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E878-7553-40DE-B609-C92BC901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AE73-DEC5-4A53-B57D-0A39D0D7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0407-912B-44CC-8AD6-62E76AC8F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DAF2F-C14D-44CB-9782-27A3C7B576F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z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GC1P/1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ylight Savings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arts of the world change their time according to the s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the summer, daylight saving time is used to extend daylight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 the sun in standard time would set at 8:00pm but when time is in daylight savings it would set at 9:00pm (therefore 1 more hour of dayl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ylight Savings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is saved and people get to enjoy more of the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 wake up when light, go to bed when d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anada time is changed to daylight saving on the second Sunday in March and ends the first Sunday of Nov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t the clocks ahead or bac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ring ahead, fall back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year, daylight savings time began on March 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set the clocks ahead one h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ill end on November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set the clocks back one h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when your alarm goes off at 7am, it will feel like 8am - like getting to sleep in an extra hou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439092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5"/>
          <p:cNvSpPr/>
          <p:nvPr/>
        </p:nvSpPr>
        <p:spPr>
          <a:xfrm>
            <a:off x="324000" y="5445000"/>
            <a:ext cx="287280" cy="2876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5867280" y="5445000"/>
            <a:ext cx="287280" cy="287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3492360" y="6093000"/>
            <a:ext cx="287640" cy="2872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615240" y="5445000"/>
            <a:ext cx="33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 Daylight Savings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6158880" y="5445000"/>
            <a:ext cx="231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ed it but gave it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3782520" y="602136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ver used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up with Saskatchew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askatchewan is naturally located within the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Mountain Standard Time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(MST) – the same timezone as Alber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Under The Time Act of 1966, Saskatchewan adopted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 Central Standard Time,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 shares the same timezone as Manito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ut since they don’t observe Daylight Savings time, they share the same time as Alberta during the summer months and the same time as Manitoba during the winter mon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 Z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arth has 24 times zones because it takes the Earth 24 hours to revolve around the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time zone is one hour ap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time zone is 15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ngi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6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/ 24 = 15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place within a time zone has the same time, referred to as its standard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 of Timez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ndard time zones were not required prior to the 1800s because it was impossible for people to travel large distances in a short period of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development of rapid railway transportation changed travel dramatically, allowing people to travel large distances quick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 of Timez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caused confusion, since every town set their own clocks by the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8:00 in Ottawa would be about 7:45 in Toro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anadian engineer same Sir Sandford Flemming proposed a system of standard time z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ada’s Timez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ada spans 6 time z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 in the Eastern Standard Time Z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t is 1:00pm in Ottawa it is the same in all of this time z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anada this includes all of Quebec and most of Ontario (as far west as Thunder B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US this includes all of the eastern states, as far west as Michi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 Time Z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ime meridian is the centre time z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zone extends 7.5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either side of the 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ngit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in this zone is called universal time (UT) and the standard time in other zones is compared to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zone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es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prime meridian are earlier than the universal time (the time at the prime meridi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if UT is 12:00am, next time zone west is 11:00p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 Time Z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zone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prime meridian are later than the universal time (the time at the prime meridia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if UT is 12:00am, next time zone east is 1:00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 Time Z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untries modify time zones (change them from straight lines) for political reasons (for example, it’s more conveni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 all of China is in same time zone, so all of the country is on the same tim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places are located where time zones m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 St. John's, so it is given half a time zone (1/2 an hou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01:16:58Z</dcterms:created>
  <dc:creator>Michael</dc:creator>
  <dc:description/>
  <dc:language>en-US</dc:language>
  <cp:lastModifiedBy>McKillop, Tim</cp:lastModifiedBy>
  <dcterms:modified xsi:type="dcterms:W3CDTF">2014-02-14T14:08:45Z</dcterms:modified>
  <cp:revision>6</cp:revision>
  <dc:subject/>
  <dc:title>Timezones</dc:title>
</cp:coreProperties>
</file>