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5.wmf" ContentType="image/x-wmf"/>
  <Override PartName="/ppt/media/image18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155C-D498-4288-9F48-1335FC39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8A3F-521F-4E24-89A0-B89C837C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21B1-79B1-453C-92A9-DAAA0FE0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3114-087B-4F0A-A69A-514E64F6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C6DE-7514-4DAD-A166-F8EEE9C2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269C-236D-4CDA-919B-1A4C8045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E921-51E5-4014-B669-8A5CEF29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3B69-B46D-4047-88EC-1C148F2C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874F-F60F-4392-AB2A-3DE183FC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8C68-45FA-4022-A75F-998BBB40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A80C-9F41-4B02-9166-3572A5C3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C5D0-78B2-46BB-BE5A-6A0D6EB1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5189-F504-4242-BB83-176D331B4DCC}" type="datetime">
              <a:rPr b="0" lang="en-CA" sz="1200" spc="-1" strike="noStrike">
                <a:solidFill>
                  <a:srgbClr val="898989"/>
                </a:solidFill>
                <a:latin typeface="Calibri"/>
              </a:rPr>
              <a:t>26-07-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A8F6-3944-4B45-97BA-5C60321487DD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88000" y="1773000"/>
            <a:ext cx="396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Map 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country sizes_Africa"/>
          <p:cNvPicPr/>
          <p:nvPr/>
        </p:nvPicPr>
        <p:blipFill>
          <a:blip r:embed="rId1"/>
          <a:stretch/>
        </p:blipFill>
        <p:spPr>
          <a:xfrm>
            <a:off x="324000" y="1773360"/>
            <a:ext cx="4286160" cy="4800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elvelyn map"/>
          <p:cNvPicPr/>
          <p:nvPr/>
        </p:nvPicPr>
        <p:blipFill>
          <a:blip r:embed="rId2"/>
          <a:stretch/>
        </p:blipFill>
        <p:spPr>
          <a:xfrm>
            <a:off x="4788000" y="2924280"/>
            <a:ext cx="4033800" cy="3620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panorama"/>
          <p:cNvPicPr/>
          <p:nvPr/>
        </p:nvPicPr>
        <p:blipFill>
          <a:blip r:embed="rId3"/>
          <a:stretch/>
        </p:blipFill>
        <p:spPr>
          <a:xfrm>
            <a:off x="324000" y="260280"/>
            <a:ext cx="8496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ntent Placeholder 3" descr="Screen Shot 2012-09-15 at 3.17.13 PM.png"/>
          <p:cNvPicPr/>
          <p:nvPr/>
        </p:nvPicPr>
        <p:blipFill>
          <a:blip r:embed="rId1"/>
          <a:srcRect l="-553" t="0" r="-553" b="0"/>
          <a:stretch/>
        </p:blipFill>
        <p:spPr>
          <a:xfrm>
            <a:off x="1295280" y="2438280"/>
            <a:ext cx="6843960" cy="3502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odroffe 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2514600" y="3352680"/>
            <a:ext cx="200016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845640" y="60199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cm= 200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ntent Placeholder 3" descr="Screen Shot 2012-09-15 at 3.18.32 PM.png"/>
          <p:cNvPicPr/>
          <p:nvPr/>
        </p:nvPicPr>
        <p:blipFill>
          <a:blip r:embed="rId1"/>
          <a:srcRect l="-2538" t="0" r="-2538" b="0"/>
          <a:stretch/>
        </p:blipFill>
        <p:spPr>
          <a:xfrm>
            <a:off x="609480" y="1828800"/>
            <a:ext cx="8183520" cy="4187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odroffe 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2514600" y="3352680"/>
            <a:ext cx="200016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1302480" y="609588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cm= 5 k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odroffe 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2514600" y="3352680"/>
            <a:ext cx="200016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1302480" y="609588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cm= 20 k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3" descr="Screen Shot 2012-09-15 at 3.19.15 PM.png"/>
          <p:cNvPicPr/>
          <p:nvPr/>
        </p:nvPicPr>
        <p:blipFill>
          <a:blip r:embed="rId1"/>
          <a:srcRect l="-1181" t="0" r="-1181" b="0"/>
          <a:stretch/>
        </p:blipFill>
        <p:spPr>
          <a:xfrm>
            <a:off x="838080" y="2214720"/>
            <a:ext cx="772632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ern Ontario 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3886200" y="1846440"/>
            <a:ext cx="4776840" cy="4093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MCj04058960000[1]"/>
          <p:cNvPicPr/>
          <p:nvPr/>
        </p:nvPicPr>
        <p:blipFill>
          <a:blip r:embed="rId2"/>
          <a:stretch/>
        </p:blipFill>
        <p:spPr>
          <a:xfrm>
            <a:off x="8004240" y="2535120"/>
            <a:ext cx="206280" cy="204840"/>
          </a:xfrm>
          <a:prstGeom prst="rect">
            <a:avLst/>
          </a:prstGeom>
          <a:ln w="0">
            <a:noFill/>
          </a:ln>
        </p:spPr>
      </p:pic>
      <p:sp>
        <p:nvSpPr>
          <p:cNvPr id="87" name="Line 6"/>
          <p:cNvSpPr/>
          <p:nvPr/>
        </p:nvSpPr>
        <p:spPr>
          <a:xfrm>
            <a:off x="5532480" y="2603520"/>
            <a:ext cx="206064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WordArt 7"/>
          <p:cNvSpPr txBox="1"/>
          <p:nvPr/>
        </p:nvSpPr>
        <p:spPr>
          <a:xfrm>
            <a:off x="3198960" y="2397240"/>
            <a:ext cx="200016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tario 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229280" y="1295280"/>
            <a:ext cx="4579920" cy="5042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MCj04058960000[1]"/>
          <p:cNvPicPr/>
          <p:nvPr/>
        </p:nvPicPr>
        <p:blipFill>
          <a:blip r:embed="rId2"/>
          <a:stretch/>
        </p:blipFill>
        <p:spPr>
          <a:xfrm>
            <a:off x="8142120" y="4875120"/>
            <a:ext cx="204840" cy="204840"/>
          </a:xfrm>
          <a:prstGeom prst="rect">
            <a:avLst/>
          </a:prstGeom>
          <a:ln w="0">
            <a:noFill/>
          </a:ln>
        </p:spPr>
      </p:pic>
      <p:sp>
        <p:nvSpPr>
          <p:cNvPr id="93" name="Line 6"/>
          <p:cNvSpPr/>
          <p:nvPr/>
        </p:nvSpPr>
        <p:spPr>
          <a:xfrm>
            <a:off x="5945040" y="4944960"/>
            <a:ext cx="205920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WordArt 7"/>
          <p:cNvSpPr txBox="1"/>
          <p:nvPr/>
        </p:nvSpPr>
        <p:spPr>
          <a:xfrm>
            <a:off x="4160880" y="4255920"/>
            <a:ext cx="199872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ada 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541680" y="1501920"/>
            <a:ext cx="5396040" cy="4620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MCj04058960000[1]"/>
          <p:cNvPicPr/>
          <p:nvPr/>
        </p:nvPicPr>
        <p:blipFill>
          <a:blip r:embed="rId2"/>
          <a:stretch/>
        </p:blipFill>
        <p:spPr>
          <a:xfrm>
            <a:off x="7386480" y="5495760"/>
            <a:ext cx="136800" cy="135000"/>
          </a:xfrm>
          <a:prstGeom prst="rect">
            <a:avLst/>
          </a:prstGeom>
          <a:ln w="0">
            <a:noFill/>
          </a:ln>
        </p:spPr>
      </p:pic>
      <p:sp>
        <p:nvSpPr>
          <p:cNvPr id="99" name="Line 6"/>
          <p:cNvSpPr/>
          <p:nvPr/>
        </p:nvSpPr>
        <p:spPr>
          <a:xfrm>
            <a:off x="5327640" y="5564160"/>
            <a:ext cx="205884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3130560" y="5151600"/>
            <a:ext cx="1998720" cy="87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ld 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wrldnanb"/>
          <p:cNvPicPr/>
          <p:nvPr/>
        </p:nvPicPr>
        <p:blipFill>
          <a:blip r:embed="rId1"/>
          <a:stretch/>
        </p:blipFill>
        <p:spPr>
          <a:xfrm>
            <a:off x="3130560" y="1984320"/>
            <a:ext cx="5765760" cy="3624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MCj04058960000[1]"/>
          <p:cNvPicPr/>
          <p:nvPr/>
        </p:nvPicPr>
        <p:blipFill>
          <a:blip r:embed="rId2"/>
          <a:stretch/>
        </p:blipFill>
        <p:spPr>
          <a:xfrm>
            <a:off x="4503600" y="3429000"/>
            <a:ext cx="136800" cy="1364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>
            <a:off x="2374920" y="3567240"/>
            <a:ext cx="206064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WordArt 7"/>
          <p:cNvSpPr txBox="1"/>
          <p:nvPr/>
        </p:nvSpPr>
        <p:spPr>
          <a:xfrm>
            <a:off x="865080" y="2948040"/>
            <a:ext cx="199872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2"/>
          <p:cNvPicPr/>
          <p:nvPr/>
        </p:nvPicPr>
        <p:blipFill>
          <a:blip r:embed="rId1"/>
          <a:stretch/>
        </p:blipFill>
        <p:spPr>
          <a:xfrm>
            <a:off x="539640" y="0"/>
            <a:ext cx="813780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Map Sc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2204640"/>
            <a:ext cx="8229600" cy="33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Direct Statement (DS)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: a sentence about a distance on a map compared to the actual distance in real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.g.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“one centimetre represents four kilometr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hree centimetres represents eight kilometr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 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25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inear Scale (LS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 straight line divided into units which can be used for measuring distance on a ma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linear scale"/>
          <p:cNvPicPr/>
          <p:nvPr/>
        </p:nvPicPr>
        <p:blipFill>
          <a:blip r:embed="rId1"/>
          <a:stretch/>
        </p:blipFill>
        <p:spPr>
          <a:xfrm>
            <a:off x="684360" y="3068640"/>
            <a:ext cx="7848360" cy="278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this to sca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461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 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resentative Fraction (RF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 fraction that involves no mention of units. Because units are ignored, whatever you assign to one side must be assigned to the 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 1: 50 000 could becom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cm : 50 000 cm o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m : 50 000 m  o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“size 11 boot” : 50 000 “size eleven boo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ale: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scale_overview"/>
          <p:cNvPicPr/>
          <p:nvPr/>
        </p:nvPicPr>
        <p:blipFill>
          <a:blip r:embed="rId1"/>
          <a:stretch/>
        </p:blipFill>
        <p:spPr>
          <a:xfrm>
            <a:off x="611280" y="1052640"/>
            <a:ext cx="7956360" cy="557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30240" y="1981080"/>
            <a:ext cx="91137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57200" y="441360"/>
            <a:ext cx="81532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80880" y="133200"/>
            <a:ext cx="8382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rge Scale and Small Scale Ma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c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rmines the amount of detail a map will show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rge Scale Map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how a </a:t>
            </a:r>
            <a:r>
              <a:rPr b="0" lang="en-US" sz="3200" spc="-1" strike="noStrike">
                <a:solidFill>
                  <a:srgbClr val="dee727"/>
                </a:solidFill>
                <a:latin typeface="Calibri"/>
              </a:rPr>
              <a:t>large amount of deta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mall are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1:50 000, 1:25 00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mall Scale Map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how a </a:t>
            </a:r>
            <a:r>
              <a:rPr b="0" lang="en-US" sz="3200" spc="-1" strike="noStrike">
                <a:solidFill>
                  <a:srgbClr val="dee727"/>
                </a:solidFill>
                <a:latin typeface="Calibri"/>
              </a:rPr>
              <a:t>small amount of deta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ver a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large are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1:250 000, 1:500 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a map of the world that fits on an 8.5 x 11 inch piece of paper has a scale of 1: 100 mill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362800" cy="4862520"/>
        </p:xfrm>
        <a:graphic>
          <a:graphicData uri="http://schemas.openxmlformats.org/drawingml/2006/table">
            <a:tbl>
              <a:tblPr/>
              <a:tblGrid>
                <a:gridCol w="2090880"/>
                <a:gridCol w="2090520"/>
                <a:gridCol w="2090880"/>
                <a:gridCol w="2090520"/>
              </a:tblGrid>
              <a:tr h="590040"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ta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x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740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arge Scale Ma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1:50 00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r les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m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 lot (LOT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streets, schools, railways, 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pographic maps, road maps, city bus ma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508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mall Scale Map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1:250 000 or mo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ar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 little  (SMAL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borders, lakes, large rivers, 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lobes, world maps, atl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A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odroffe High Sch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5"/>
          <p:cNvSpPr/>
          <p:nvPr/>
        </p:nvSpPr>
        <p:spPr>
          <a:xfrm>
            <a:off x="316080" y="3843360"/>
            <a:ext cx="315720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384120" y="2535120"/>
            <a:ext cx="200016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9" name="Picture 7" descr="MCj04058960000[1]"/>
          <p:cNvPicPr/>
          <p:nvPr/>
        </p:nvPicPr>
        <p:blipFill>
          <a:blip r:embed="rId1"/>
          <a:stretch/>
        </p:blipFill>
        <p:spPr>
          <a:xfrm>
            <a:off x="3892680" y="3832200"/>
            <a:ext cx="457200" cy="46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3505320" y="2057400"/>
            <a:ext cx="4905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odroffe 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541680" y="4462560"/>
            <a:ext cx="254016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MCj04058960000[1]"/>
          <p:cNvPicPr/>
          <p:nvPr/>
        </p:nvPicPr>
        <p:blipFill>
          <a:blip r:embed="rId1"/>
          <a:stretch/>
        </p:blipFill>
        <p:spPr>
          <a:xfrm>
            <a:off x="5983200" y="4427640"/>
            <a:ext cx="171360" cy="17460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3" descr="Screen Shot 2012-09-15 at 3.20.24 PM.png"/>
          <p:cNvPicPr/>
          <p:nvPr/>
        </p:nvPicPr>
        <p:blipFill>
          <a:blip r:embed="rId2"/>
          <a:srcRect l="-1296" t="0" r="-1296" b="0"/>
          <a:stretch/>
        </p:blipFill>
        <p:spPr>
          <a:xfrm>
            <a:off x="1905120" y="2209680"/>
            <a:ext cx="6843600" cy="350208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2438280" y="3733920"/>
            <a:ext cx="200052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1379160" y="60199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cm= 100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02:23:37Z</dcterms:created>
  <dc:creator>Phil</dc:creator>
  <dc:description/>
  <dc:language>en-US</dc:language>
  <cp:lastModifiedBy>McKillop, Tim</cp:lastModifiedBy>
  <dcterms:modified xsi:type="dcterms:W3CDTF">2014-02-07T13:55:29Z</dcterms:modified>
  <cp:revision>15</cp:revision>
  <dc:subject/>
  <dc:title>Map Scale and Map Projections</dc:title>
</cp:coreProperties>
</file>